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0F9-D5A5-4866-A11C-8C5C125F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246-754F-48CF-A1BE-724F3799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0C4-6229-4458-96D2-78473375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C06-5B19-4377-9BA8-BE5C1939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16E5-9637-4766-AB98-A578B544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8460-1A8A-4B7E-AF5C-0E6739F9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0C7B-16A6-46BE-8B88-DB5AE2F2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533-FAAA-4B9C-AFB2-9FB787BC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6A8A-63BA-4FA8-931E-CAD2A8D9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FCCA-F8F2-452C-886B-20DF0DF1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A20D-CC0F-4B13-BA0A-BD5F993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79A-CD67-4C8A-88A3-D1D4B13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164C-9C77-40CD-8382-7FE53B9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F946-057A-4670-B7CD-AB1BC0EC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B290-AF8E-4AF9-8D67-30E2018C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D787-1919-468B-ADDE-BBD87972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5B1D-11FB-4FF9-A71B-E70F55FF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FE2-2FC2-41B9-8066-B0ED84A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EA9-E314-4901-9809-E7DE8FA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B81-FBD2-4F01-8846-81DF9E85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816-6423-4041-A268-8BF844ED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B59-6DB9-4BD1-A5BD-C53F71C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BB1-99ED-4AAB-9D14-05F24917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BA2-2E78-4450-9CA6-F8552AD6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91AF-9328-4B5B-9778-9C3C16CEADA8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489A-85A8-4E12-914B-49E806E91D75}" type="slidenum">
              <a:rPr b="0" lang="es-CO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Tahoma"/>
              </a:rPr>
              <a:t>Fundamentos de 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O" sz="4400" spc="-1" strike="noStrike">
                <a:solidFill>
                  <a:srgbClr val="000000"/>
                </a:solidFill>
                <a:latin typeface="Tahoma"/>
              </a:rPr>
              <a:t>Orientación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a Obje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53848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Ejemplo Enviar Flores [4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Juan le solicita a Rosa un </a:t>
            </a: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serv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Rosa sabe cómo prestarle el servicio a Ju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Juan  sabe que Rosa presta el servicio que el necesi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Rosa es responsable de prestarle el servicio adecuadamente a Ju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Juan desconoce qué le implica a Rosa prestarle el serv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-279360" y="-171360"/>
            <a:ext cx="55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CB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3848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709280"/>
            <a:ext cx="77724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Ejemplo Enviar Flores [4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109520" y="2635200"/>
            <a:ext cx="780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Marí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14280" y="4370400"/>
            <a:ext cx="660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Ju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092400" y="4384800"/>
            <a:ext cx="711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Ro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567320" y="5207040"/>
            <a:ext cx="1811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Florista</a:t>
            </a: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Loc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799680" y="4357800"/>
            <a:ext cx="1456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Recolec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851880" y="3457440"/>
            <a:ext cx="1321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Produc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181840" y="3510000"/>
            <a:ext cx="1287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Arreglis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3002400" y="2649600"/>
            <a:ext cx="1422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Mensaje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1905120" y="4567320"/>
            <a:ext cx="97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3862440" y="4605480"/>
            <a:ext cx="83484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097160" y="3105000"/>
            <a:ext cx="782640" cy="21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Line 15"/>
          <p:cNvSpPr/>
          <p:nvPr/>
        </p:nvSpPr>
        <p:spPr>
          <a:xfrm flipH="1">
            <a:off x="5138280" y="3835440"/>
            <a:ext cx="708120" cy="14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Line 16"/>
          <p:cNvSpPr/>
          <p:nvPr/>
        </p:nvSpPr>
        <p:spPr>
          <a:xfrm flipH="1">
            <a:off x="5570280" y="4619520"/>
            <a:ext cx="126828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Line 17"/>
          <p:cNvSpPr/>
          <p:nvPr/>
        </p:nvSpPr>
        <p:spPr>
          <a:xfrm flipH="1">
            <a:off x="7292880" y="3822840"/>
            <a:ext cx="35568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Line 18"/>
          <p:cNvSpPr/>
          <p:nvPr/>
        </p:nvSpPr>
        <p:spPr>
          <a:xfrm flipH="1">
            <a:off x="1915920" y="2844720"/>
            <a:ext cx="106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38488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77708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51"/>
              </a:spcBef>
              <a:buSzPct val="11315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En programación orientada por objetos un programa es una comunidad de agentes (objetos) que interactuan entre ello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51"/>
              </a:spcBef>
              <a:buSzPct val="113152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Cada objeto tiene un rol en la solución del problema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51"/>
              </a:spcBef>
              <a:buSzPct val="113152"/>
              <a:buBlip>
                <a:blip r:embed="rId3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Cada objeto provee un conjunto de servicios (o métodos)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51"/>
              </a:spcBef>
              <a:buSzPct val="113152"/>
              <a:buBlip>
                <a:blip r:embed="rId4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Los servicios de un objeto son usados por otros objeto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3848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57080"/>
            <a:ext cx="777240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51"/>
              </a:spcBef>
              <a:buSzPct val="11315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La forma en que los objetos se comunican entre ellos es a través de mensajes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Un mensaje encapsula la petición de un serv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El receptor del mensaje presta el servicio y devuelve una respuesta al que solicitó el serv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9" name="Group 2"/>
          <p:cNvGrpSpPr/>
          <p:nvPr/>
        </p:nvGrpSpPr>
        <p:grpSpPr>
          <a:xfrm>
            <a:off x="990720" y="1752480"/>
            <a:ext cx="7466040" cy="1599480"/>
            <a:chOff x="990720" y="1752480"/>
            <a:chExt cx="7466040" cy="1599480"/>
          </a:xfrm>
        </p:grpSpPr>
        <p:grpSp>
          <p:nvGrpSpPr>
            <p:cNvPr id="320" name="Group 3"/>
            <p:cNvGrpSpPr/>
            <p:nvPr/>
          </p:nvGrpSpPr>
          <p:grpSpPr>
            <a:xfrm>
              <a:off x="990720" y="2045160"/>
              <a:ext cx="2252520" cy="1306800"/>
              <a:chOff x="990720" y="2045160"/>
              <a:chExt cx="2252520" cy="1306800"/>
            </a:xfrm>
          </p:grpSpPr>
          <p:sp>
            <p:nvSpPr>
              <p:cNvPr id="321" name="AutoShape 4"/>
              <p:cNvSpPr/>
              <p:nvPr/>
            </p:nvSpPr>
            <p:spPr>
              <a:xfrm>
                <a:off x="990720" y="2050200"/>
                <a:ext cx="2252520" cy="1301760"/>
              </a:xfrm>
              <a:prstGeom prst="roundRect">
                <a:avLst>
                  <a:gd name="adj" fmla="val 12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2" name="Oval 5"/>
              <p:cNvSpPr/>
              <p:nvPr/>
            </p:nvSpPr>
            <p:spPr>
              <a:xfrm>
                <a:off x="2114640" y="2921760"/>
                <a:ext cx="239760" cy="204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3" name="AutoShape 6"/>
              <p:cNvSpPr/>
              <p:nvPr/>
            </p:nvSpPr>
            <p:spPr>
              <a:xfrm>
                <a:off x="2484360" y="2624400"/>
                <a:ext cx="276480" cy="148680"/>
              </a:xfrm>
              <a:prstGeom prst="roundRect">
                <a:avLst>
                  <a:gd name="adj" fmla="val 1083"/>
                </a:avLst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4" name="Freeform 7"/>
              <p:cNvSpPr/>
              <p:nvPr/>
            </p:nvSpPr>
            <p:spPr>
              <a:xfrm>
                <a:off x="1544760" y="2625840"/>
                <a:ext cx="295200" cy="3344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4440"/>
                  <a:gd name="textAreaBottom" fmla="*/ 334800 h 334440"/>
                </a:gdLst>
                <a:ahLst/>
                <a:rect l="textAreaLeft" t="textAreaTop" r="textAreaRight" b="textAreaBottom"/>
                <a:pathLst>
                  <a:path w="821" h="922">
                    <a:moveTo>
                      <a:pt x="410" y="0"/>
                    </a:moveTo>
                    <a:lnTo>
                      <a:pt x="820" y="921"/>
                    </a:lnTo>
                    <a:lnTo>
                      <a:pt x="0" y="921"/>
                    </a:lnTo>
                    <a:lnTo>
                      <a:pt x="410" y="0"/>
                    </a:lnTo>
                  </a:path>
                </a:pathLst>
              </a:custGeom>
              <a:solidFill>
                <a:srgbClr val="9900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325" name="Group 8"/>
              <p:cNvGrpSpPr/>
              <p:nvPr/>
            </p:nvGrpSpPr>
            <p:grpSpPr>
              <a:xfrm>
                <a:off x="1006560" y="2045160"/>
                <a:ext cx="2219400" cy="349560"/>
                <a:chOff x="1006560" y="2045160"/>
                <a:chExt cx="2219400" cy="349560"/>
              </a:xfrm>
            </p:grpSpPr>
            <p:grpSp>
              <p:nvGrpSpPr>
                <p:cNvPr id="326" name="Group 9"/>
                <p:cNvGrpSpPr/>
                <p:nvPr/>
              </p:nvGrpSpPr>
              <p:grpSpPr>
                <a:xfrm>
                  <a:off x="1012680" y="2045160"/>
                  <a:ext cx="2213280" cy="349560"/>
                  <a:chOff x="1012680" y="2045160"/>
                  <a:chExt cx="2213280" cy="349560"/>
                </a:xfrm>
              </p:grpSpPr>
              <p:sp>
                <p:nvSpPr>
                  <p:cNvPr id="327" name="AutoShape 10"/>
                  <p:cNvSpPr/>
                  <p:nvPr/>
                </p:nvSpPr>
                <p:spPr>
                  <a:xfrm>
                    <a:off x="1012680" y="2045160"/>
                    <a:ext cx="2213280" cy="349560"/>
                  </a:xfrm>
                  <a:prstGeom prst="roundRect">
                    <a:avLst>
                      <a:gd name="adj" fmla="val 454"/>
                    </a:avLst>
                  </a:pr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8" name="AutoShape 11"/>
                  <p:cNvSpPr/>
                  <p:nvPr/>
                </p:nvSpPr>
                <p:spPr>
                  <a:xfrm>
                    <a:off x="2431080" y="2130840"/>
                    <a:ext cx="221760" cy="214920"/>
                  </a:xfrm>
                  <a:prstGeom prst="roundRect">
                    <a:avLst>
                      <a:gd name="adj" fmla="val 745"/>
                    </a:avLst>
                  </a:pr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9" name="AutoShape 12"/>
                  <p:cNvSpPr/>
                  <p:nvPr/>
                </p:nvSpPr>
                <p:spPr>
                  <a:xfrm>
                    <a:off x="2857680" y="2130840"/>
                    <a:ext cx="221760" cy="214920"/>
                  </a:xfrm>
                  <a:prstGeom prst="roundRect">
                    <a:avLst>
                      <a:gd name="adj" fmla="val 745"/>
                    </a:avLst>
                  </a:pr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0" name="Group 13"/>
                <p:cNvGrpSpPr/>
                <p:nvPr/>
              </p:nvGrpSpPr>
              <p:grpSpPr>
                <a:xfrm>
                  <a:off x="1006560" y="2068920"/>
                  <a:ext cx="1403280" cy="260280"/>
                  <a:chOff x="1006560" y="2068920"/>
                  <a:chExt cx="1403280" cy="260280"/>
                </a:xfrm>
              </p:grpSpPr>
              <p:sp>
                <p:nvSpPr>
                  <p:cNvPr id="331" name="AutoShape 14"/>
                  <p:cNvSpPr/>
                  <p:nvPr/>
                </p:nvSpPr>
                <p:spPr>
                  <a:xfrm>
                    <a:off x="1006560" y="2070720"/>
                    <a:ext cx="1403280" cy="258480"/>
                  </a:xfrm>
                  <a:prstGeom prst="roundRect">
                    <a:avLst>
                      <a:gd name="adj" fmla="val 616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2" name="Text Box 15"/>
                  <p:cNvSpPr/>
                  <p:nvPr/>
                </p:nvSpPr>
                <p:spPr>
                  <a:xfrm>
                    <a:off x="1006560" y="2068920"/>
                    <a:ext cx="1403280" cy="23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612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40458c"/>
                        </a:solidFill>
                        <a:latin typeface="Arial"/>
                        <a:ea typeface="HG Mincho Light J"/>
                      </a:rPr>
                      <a:t>Ventana ejemplo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33" name="Group 16"/>
            <p:cNvGrpSpPr/>
            <p:nvPr/>
          </p:nvGrpSpPr>
          <p:grpSpPr>
            <a:xfrm>
              <a:off x="5010120" y="1752480"/>
              <a:ext cx="3446640" cy="1087560"/>
              <a:chOff x="5010120" y="1752480"/>
              <a:chExt cx="3446640" cy="1087560"/>
            </a:xfrm>
          </p:grpSpPr>
          <p:sp>
            <p:nvSpPr>
              <p:cNvPr id="334" name="AutoShape 17"/>
              <p:cNvSpPr/>
              <p:nvPr/>
            </p:nvSpPr>
            <p:spPr>
              <a:xfrm>
                <a:off x="5159520" y="1752480"/>
                <a:ext cx="3297240" cy="1087560"/>
              </a:xfrm>
              <a:prstGeom prst="roundRect">
                <a:avLst>
                  <a:gd name="adj" fmla="val 14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5010120" y="1752480"/>
                <a:ext cx="329256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Un objeto ventana gráfica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36" name="Line 19"/>
            <p:cNvSpPr/>
            <p:nvPr/>
          </p:nvSpPr>
          <p:spPr>
            <a:xfrm flipV="1">
              <a:off x="3405240" y="1971360"/>
              <a:ext cx="17175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525240" y="3505320"/>
            <a:ext cx="3848040" cy="2690640"/>
            <a:chOff x="525240" y="3505320"/>
            <a:chExt cx="3848040" cy="2690640"/>
          </a:xfrm>
        </p:grpSpPr>
        <p:sp>
          <p:nvSpPr>
            <p:cNvPr id="338" name="AutoShape 21"/>
            <p:cNvSpPr/>
            <p:nvPr/>
          </p:nvSpPr>
          <p:spPr>
            <a:xfrm>
              <a:off x="914400" y="3505320"/>
              <a:ext cx="3458880" cy="2690640"/>
            </a:xfrm>
            <a:prstGeom prst="roundRect">
              <a:avLst>
                <a:gd name="adj" fmla="val 5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9" name="Text Box 22"/>
            <p:cNvSpPr/>
            <p:nvPr/>
          </p:nvSpPr>
          <p:spPr>
            <a:xfrm>
              <a:off x="525240" y="3505320"/>
              <a:ext cx="3643920" cy="25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2520" indent="-182520">
                <a:lnSpc>
                  <a:spcPct val="93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 ventana se sabe: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erra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abri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ambiar de tamaño 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pinta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move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0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Además, sabe: dónde está,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0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i está visible o no ...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0" name="Group 23"/>
          <p:cNvGrpSpPr/>
          <p:nvPr/>
        </p:nvGrpSpPr>
        <p:grpSpPr>
          <a:xfrm>
            <a:off x="4811760" y="4716360"/>
            <a:ext cx="3612960" cy="833400"/>
            <a:chOff x="4811760" y="4716360"/>
            <a:chExt cx="3612960" cy="833400"/>
          </a:xfrm>
        </p:grpSpPr>
        <p:sp>
          <p:nvSpPr>
            <p:cNvPr id="341" name="AutoShape 24"/>
            <p:cNvSpPr/>
            <p:nvPr/>
          </p:nvSpPr>
          <p:spPr>
            <a:xfrm>
              <a:off x="4811760" y="4716360"/>
              <a:ext cx="3612960" cy="833400"/>
            </a:xfrm>
            <a:prstGeom prst="roundRect">
              <a:avLst>
                <a:gd name="adj" fmla="val 19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4811760" y="4716360"/>
              <a:ext cx="361296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93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</a:t>
              </a: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ómo se le solicitan los servicios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4572000" y="3432240"/>
            <a:ext cx="4226040" cy="833400"/>
            <a:chOff x="4572000" y="3432240"/>
            <a:chExt cx="4226040" cy="833400"/>
          </a:xfrm>
        </p:grpSpPr>
        <p:sp>
          <p:nvSpPr>
            <p:cNvPr id="344" name="AutoShape 27"/>
            <p:cNvSpPr/>
            <p:nvPr/>
          </p:nvSpPr>
          <p:spPr>
            <a:xfrm>
              <a:off x="4572000" y="3432240"/>
              <a:ext cx="4226040" cy="833400"/>
            </a:xfrm>
            <a:prstGeom prst="roundRect">
              <a:avLst>
                <a:gd name="adj" fmla="val 19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579200" y="3432240"/>
              <a:ext cx="421164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Qué sabe hacer la ventana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uáles servicios ofrece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18184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AutoShape 2"/>
          <p:cNvSpPr/>
          <p:nvPr/>
        </p:nvSpPr>
        <p:spPr>
          <a:xfrm>
            <a:off x="981000" y="2004840"/>
            <a:ext cx="2254320" cy="1292400"/>
          </a:xfrm>
          <a:prstGeom prst="roundRect">
            <a:avLst>
              <a:gd name="adj" fmla="val 12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Oval 3"/>
          <p:cNvSpPr/>
          <p:nvPr/>
        </p:nvSpPr>
        <p:spPr>
          <a:xfrm>
            <a:off x="2106720" y="2870280"/>
            <a:ext cx="239760" cy="203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2476440" y="2575080"/>
            <a:ext cx="276120" cy="147600"/>
          </a:xfrm>
          <a:prstGeom prst="roundRect">
            <a:avLst>
              <a:gd name="adj" fmla="val 108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Freeform 5"/>
          <p:cNvSpPr/>
          <p:nvPr/>
        </p:nvSpPr>
        <p:spPr>
          <a:xfrm>
            <a:off x="1535040" y="2576520"/>
            <a:ext cx="295200" cy="331920"/>
          </a:xfrm>
          <a:custGeom>
            <a:avLst/>
            <a:gdLst>
              <a:gd name="textAreaLeft" fmla="*/ 0 w 295200"/>
              <a:gd name="textAreaRight" fmla="*/ 295560 w 2952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821" h="922">
                <a:moveTo>
                  <a:pt x="410" y="0"/>
                </a:moveTo>
                <a:lnTo>
                  <a:pt x="820" y="921"/>
                </a:lnTo>
                <a:lnTo>
                  <a:pt x="0" y="921"/>
                </a:lnTo>
                <a:lnTo>
                  <a:pt x="410" y="0"/>
                </a:lnTo>
              </a:path>
            </a:pathLst>
          </a:custGeom>
          <a:solidFill>
            <a:srgbClr val="9900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979560" y="2000160"/>
            <a:ext cx="2239920" cy="347760"/>
            <a:chOff x="979560" y="2000160"/>
            <a:chExt cx="2239920" cy="347760"/>
          </a:xfrm>
        </p:grpSpPr>
        <p:sp>
          <p:nvSpPr>
            <p:cNvPr id="352" name="AutoShape 7"/>
            <p:cNvSpPr/>
            <p:nvPr/>
          </p:nvSpPr>
          <p:spPr>
            <a:xfrm>
              <a:off x="979560" y="2000160"/>
              <a:ext cx="2239920" cy="347760"/>
            </a:xfrm>
            <a:prstGeom prst="roundRect">
              <a:avLst>
                <a:gd name="adj" fmla="val 454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3" name="AutoShape 8"/>
            <p:cNvSpPr/>
            <p:nvPr/>
          </p:nvSpPr>
          <p:spPr>
            <a:xfrm>
              <a:off x="2413440" y="2085480"/>
              <a:ext cx="225000" cy="213480"/>
            </a:xfrm>
            <a:prstGeom prst="roundRect">
              <a:avLst>
                <a:gd name="adj" fmla="val 745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4" name="AutoShape 9"/>
            <p:cNvSpPr/>
            <p:nvPr/>
          </p:nvSpPr>
          <p:spPr>
            <a:xfrm>
              <a:off x="2845080" y="2085480"/>
              <a:ext cx="225000" cy="213480"/>
            </a:xfrm>
            <a:prstGeom prst="roundRect">
              <a:avLst>
                <a:gd name="adj" fmla="val 745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5" name="Group 10"/>
          <p:cNvGrpSpPr/>
          <p:nvPr/>
        </p:nvGrpSpPr>
        <p:grpSpPr>
          <a:xfrm>
            <a:off x="984240" y="2050920"/>
            <a:ext cx="1401840" cy="255960"/>
            <a:chOff x="984240" y="2050920"/>
            <a:chExt cx="1401840" cy="255960"/>
          </a:xfrm>
        </p:grpSpPr>
        <p:sp>
          <p:nvSpPr>
            <p:cNvPr id="356" name="AutoShape 11"/>
            <p:cNvSpPr/>
            <p:nvPr/>
          </p:nvSpPr>
          <p:spPr>
            <a:xfrm>
              <a:off x="984240" y="2050920"/>
              <a:ext cx="1401840" cy="255960"/>
            </a:xfrm>
            <a:prstGeom prst="roundRect">
              <a:avLst>
                <a:gd name="adj" fmla="val 6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7" name="Text Box 12"/>
            <p:cNvSpPr/>
            <p:nvPr/>
          </p:nvSpPr>
          <p:spPr>
            <a:xfrm>
              <a:off x="984240" y="2050920"/>
              <a:ext cx="14018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6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Ventana ejemplo</a:t>
              </a:r>
              <a:endParaRPr b="0" lang="en-US" sz="1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8" name="Group 13"/>
          <p:cNvGrpSpPr/>
          <p:nvPr/>
        </p:nvGrpSpPr>
        <p:grpSpPr>
          <a:xfrm>
            <a:off x="424800" y="3686040"/>
            <a:ext cx="3927600" cy="2152800"/>
            <a:chOff x="424800" y="3686040"/>
            <a:chExt cx="3927600" cy="2152800"/>
          </a:xfrm>
        </p:grpSpPr>
        <p:sp>
          <p:nvSpPr>
            <p:cNvPr id="359" name="AutoShape 14"/>
            <p:cNvSpPr/>
            <p:nvPr/>
          </p:nvSpPr>
          <p:spPr>
            <a:xfrm>
              <a:off x="608040" y="3686040"/>
              <a:ext cx="3537000" cy="2152800"/>
            </a:xfrm>
            <a:prstGeom prst="roundRect">
              <a:avLst>
                <a:gd name="adj" fmla="val 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424800" y="3686040"/>
              <a:ext cx="3927600" cy="18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2520" indent="-182520">
                <a:lnSpc>
                  <a:spcPct val="93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s figuras geométricas se </a:t>
              </a:r>
              <a:br>
                <a:rPr sz="2000"/>
              </a:b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aben: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Pinta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agrandar ..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0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Además, saben: dónde están,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0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i están visibles o no ...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61" name="Group 16"/>
          <p:cNvGrpSpPr/>
          <p:nvPr/>
        </p:nvGrpSpPr>
        <p:grpSpPr>
          <a:xfrm>
            <a:off x="4952880" y="5389560"/>
            <a:ext cx="3613320" cy="833760"/>
            <a:chOff x="4952880" y="5389560"/>
            <a:chExt cx="3613320" cy="833760"/>
          </a:xfrm>
        </p:grpSpPr>
        <p:sp>
          <p:nvSpPr>
            <p:cNvPr id="362" name="AutoShape 17"/>
            <p:cNvSpPr/>
            <p:nvPr/>
          </p:nvSpPr>
          <p:spPr>
            <a:xfrm>
              <a:off x="4952880" y="5389560"/>
              <a:ext cx="3613320" cy="833760"/>
            </a:xfrm>
            <a:prstGeom prst="roundRect">
              <a:avLst>
                <a:gd name="adj" fmla="val 19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4952880" y="5389560"/>
              <a:ext cx="3613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93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ómo se le solicitan los servicios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64" name="Group 19"/>
          <p:cNvGrpSpPr/>
          <p:nvPr/>
        </p:nvGrpSpPr>
        <p:grpSpPr>
          <a:xfrm>
            <a:off x="4572000" y="4246560"/>
            <a:ext cx="3963960" cy="1113480"/>
            <a:chOff x="4572000" y="4246560"/>
            <a:chExt cx="3963960" cy="1113480"/>
          </a:xfrm>
        </p:grpSpPr>
        <p:sp>
          <p:nvSpPr>
            <p:cNvPr id="365" name="AutoShape 20"/>
            <p:cNvSpPr/>
            <p:nvPr/>
          </p:nvSpPr>
          <p:spPr>
            <a:xfrm>
              <a:off x="4572000" y="4246560"/>
              <a:ext cx="3963960" cy="835200"/>
            </a:xfrm>
            <a:prstGeom prst="roundRect">
              <a:avLst>
                <a:gd name="adj" fmla="val 19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Text Box 21"/>
            <p:cNvSpPr/>
            <p:nvPr/>
          </p:nvSpPr>
          <p:spPr>
            <a:xfrm>
              <a:off x="4572000" y="4246560"/>
              <a:ext cx="396396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Qué saben hacer las figuras geométricas gráficas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67" name="Group 22"/>
          <p:cNvGrpSpPr/>
          <p:nvPr/>
        </p:nvGrpSpPr>
        <p:grpSpPr>
          <a:xfrm>
            <a:off x="1828800" y="2209680"/>
            <a:ext cx="6706800" cy="1752480"/>
            <a:chOff x="1828800" y="2209680"/>
            <a:chExt cx="6706800" cy="1752480"/>
          </a:xfrm>
        </p:grpSpPr>
        <p:grpSp>
          <p:nvGrpSpPr>
            <p:cNvPr id="368" name="Group 23"/>
            <p:cNvGrpSpPr/>
            <p:nvPr/>
          </p:nvGrpSpPr>
          <p:grpSpPr>
            <a:xfrm>
              <a:off x="4282560" y="2209680"/>
              <a:ext cx="4253040" cy="1752480"/>
              <a:chOff x="4282560" y="2209680"/>
              <a:chExt cx="4253040" cy="1752480"/>
            </a:xfrm>
          </p:grpSpPr>
          <p:sp>
            <p:nvSpPr>
              <p:cNvPr id="369" name="AutoShape 24"/>
              <p:cNvSpPr/>
              <p:nvPr/>
            </p:nvSpPr>
            <p:spPr>
              <a:xfrm>
                <a:off x="4669920" y="2209680"/>
                <a:ext cx="3865680" cy="1752480"/>
              </a:xfrm>
              <a:prstGeom prst="roundRect">
                <a:avLst>
                  <a:gd name="adj" fmla="val 8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Text Box 25"/>
              <p:cNvSpPr/>
              <p:nvPr/>
            </p:nvSpPr>
            <p:spPr>
              <a:xfrm>
                <a:off x="4282560" y="2209680"/>
                <a:ext cx="4067640" cy="12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82520" indent="-182520">
                  <a:lnSpc>
                    <a:spcPct val="93000"/>
                  </a:lnSpc>
                  <a:tabLst>
                    <a:tab algn="l" pos="0"/>
                    <a:tab algn="l" pos="182520"/>
                    <a:tab algn="l" pos="1096920"/>
                    <a:tab algn="l" pos="2011320"/>
                    <a:tab algn="l" pos="2925720"/>
                    <a:tab algn="l" pos="3840120"/>
                    <a:tab algn="l" pos="4754520"/>
                    <a:tab algn="l" pos="5668920"/>
                    <a:tab algn="l" pos="6583320"/>
                    <a:tab algn="l" pos="7497720"/>
                    <a:tab algn="l" pos="8412120"/>
                    <a:tab algn="l" pos="9326520"/>
                    <a:tab algn="l" pos="1024092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Objetos figuras geométricas: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marL="182520" indent="-18252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Symbol" charset="2"/>
                  <a:buChar char=""/>
                  <a:tabLst>
                    <a:tab algn="l" pos="182520"/>
                    <a:tab algn="l" pos="1096920"/>
                    <a:tab algn="l" pos="2011320"/>
                    <a:tab algn="l" pos="2925720"/>
                    <a:tab algn="l" pos="3840120"/>
                    <a:tab algn="l" pos="4754520"/>
                    <a:tab algn="l" pos="5668920"/>
                    <a:tab algn="l" pos="6583320"/>
                    <a:tab algn="l" pos="7497720"/>
                    <a:tab algn="l" pos="8412120"/>
                    <a:tab algn="l" pos="9326520"/>
                    <a:tab algn="l" pos="1024092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un triángulo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marL="182520" indent="-18252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Symbol" charset="2"/>
                  <a:buChar char=""/>
                  <a:tabLst>
                    <a:tab algn="l" pos="182520"/>
                    <a:tab algn="l" pos="1096920"/>
                    <a:tab algn="l" pos="2011320"/>
                    <a:tab algn="l" pos="2925720"/>
                    <a:tab algn="l" pos="3840120"/>
                    <a:tab algn="l" pos="4754520"/>
                    <a:tab algn="l" pos="5668920"/>
                    <a:tab algn="l" pos="6583320"/>
                    <a:tab algn="l" pos="7497720"/>
                    <a:tab algn="l" pos="8412120"/>
                    <a:tab algn="l" pos="9326520"/>
                    <a:tab algn="l" pos="1024092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un rectángulo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marL="182520" indent="-18252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Symbol" charset="2"/>
                  <a:buChar char=""/>
                  <a:tabLst>
                    <a:tab algn="l" pos="182520"/>
                    <a:tab algn="l" pos="1096920"/>
                    <a:tab algn="l" pos="2011320"/>
                    <a:tab algn="l" pos="2925720"/>
                    <a:tab algn="l" pos="3840120"/>
                    <a:tab algn="l" pos="4754520"/>
                    <a:tab algn="l" pos="5668920"/>
                    <a:tab algn="l" pos="6583320"/>
                    <a:tab algn="l" pos="7497720"/>
                    <a:tab algn="l" pos="8412120"/>
                    <a:tab algn="l" pos="9326520"/>
                    <a:tab algn="l" pos="1024092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un círculo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71" name="Line 26"/>
            <p:cNvSpPr/>
            <p:nvPr/>
          </p:nvSpPr>
          <p:spPr>
            <a:xfrm flipV="1">
              <a:off x="2784600" y="2346120"/>
              <a:ext cx="1748160" cy="2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Line 27"/>
            <p:cNvSpPr/>
            <p:nvPr/>
          </p:nvSpPr>
          <p:spPr>
            <a:xfrm flipV="1">
              <a:off x="1828800" y="2263680"/>
              <a:ext cx="27597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3" name="Line 28"/>
            <p:cNvSpPr/>
            <p:nvPr/>
          </p:nvSpPr>
          <p:spPr>
            <a:xfrm flipV="1">
              <a:off x="2352240" y="2462040"/>
              <a:ext cx="2168640" cy="35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87692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990720" y="1752480"/>
            <a:ext cx="2253960" cy="1292400"/>
          </a:xfrm>
          <a:prstGeom prst="roundRect">
            <a:avLst>
              <a:gd name="adj" fmla="val 12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5884920" y="1952640"/>
            <a:ext cx="1215720" cy="496440"/>
            <a:chOff x="5884920" y="1952640"/>
            <a:chExt cx="1215720" cy="496440"/>
          </a:xfrm>
        </p:grpSpPr>
        <p:sp>
          <p:nvSpPr>
            <p:cNvPr id="377" name="Oval 4"/>
            <p:cNvSpPr/>
            <p:nvPr/>
          </p:nvSpPr>
          <p:spPr>
            <a:xfrm>
              <a:off x="6455520" y="2246760"/>
              <a:ext cx="239400" cy="20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6824880" y="1952640"/>
              <a:ext cx="275760" cy="146880"/>
            </a:xfrm>
            <a:prstGeom prst="roundRect">
              <a:avLst>
                <a:gd name="adj" fmla="val 1083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9" name="Freeform 6"/>
            <p:cNvSpPr/>
            <p:nvPr/>
          </p:nvSpPr>
          <p:spPr>
            <a:xfrm>
              <a:off x="5884920" y="1954080"/>
              <a:ext cx="294840" cy="33192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1" h="924">
                  <a:moveTo>
                    <a:pt x="410" y="0"/>
                  </a:moveTo>
                  <a:lnTo>
                    <a:pt x="820" y="923"/>
                  </a:lnTo>
                  <a:lnTo>
                    <a:pt x="0" y="923"/>
                  </a:lnTo>
                  <a:lnTo>
                    <a:pt x="410" y="0"/>
                  </a:lnTo>
                </a:path>
              </a:pathLst>
            </a:custGeom>
            <a:solidFill>
              <a:srgbClr val="9900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0" name="Group 7"/>
          <p:cNvGrpSpPr/>
          <p:nvPr/>
        </p:nvGrpSpPr>
        <p:grpSpPr>
          <a:xfrm>
            <a:off x="1006560" y="1747800"/>
            <a:ext cx="2220480" cy="347760"/>
            <a:chOff x="1006560" y="1747800"/>
            <a:chExt cx="2220480" cy="347760"/>
          </a:xfrm>
        </p:grpSpPr>
        <p:grpSp>
          <p:nvGrpSpPr>
            <p:cNvPr id="381" name="Group 8"/>
            <p:cNvGrpSpPr/>
            <p:nvPr/>
          </p:nvGrpSpPr>
          <p:grpSpPr>
            <a:xfrm>
              <a:off x="1012680" y="1747800"/>
              <a:ext cx="2214360" cy="347760"/>
              <a:chOff x="1012680" y="1747800"/>
              <a:chExt cx="2214360" cy="347760"/>
            </a:xfrm>
          </p:grpSpPr>
          <p:sp>
            <p:nvSpPr>
              <p:cNvPr id="382" name="AutoShape 9"/>
              <p:cNvSpPr/>
              <p:nvPr/>
            </p:nvSpPr>
            <p:spPr>
              <a:xfrm>
                <a:off x="1012680" y="1747800"/>
                <a:ext cx="2214360" cy="347760"/>
              </a:xfrm>
              <a:prstGeom prst="roundRect">
                <a:avLst>
                  <a:gd name="adj" fmla="val 454"/>
                </a:avLst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3" name="AutoShape 10"/>
              <p:cNvSpPr/>
              <p:nvPr/>
            </p:nvSpPr>
            <p:spPr>
              <a:xfrm>
                <a:off x="2432160" y="1833120"/>
                <a:ext cx="221760" cy="212760"/>
              </a:xfrm>
              <a:prstGeom prst="roundRect">
                <a:avLst>
                  <a:gd name="adj" fmla="val 745"/>
                </a:avLst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4" name="AutoShape 11"/>
              <p:cNvSpPr/>
              <p:nvPr/>
            </p:nvSpPr>
            <p:spPr>
              <a:xfrm>
                <a:off x="2858760" y="1833120"/>
                <a:ext cx="221760" cy="212760"/>
              </a:xfrm>
              <a:prstGeom prst="roundRect">
                <a:avLst>
                  <a:gd name="adj" fmla="val 745"/>
                </a:avLst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85" name="Text Box 12"/>
            <p:cNvSpPr/>
            <p:nvPr/>
          </p:nvSpPr>
          <p:spPr>
            <a:xfrm>
              <a:off x="1006560" y="1771920"/>
              <a:ext cx="14032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Ventana ejemplo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6" name="Group 13"/>
          <p:cNvGrpSpPr/>
          <p:nvPr/>
        </p:nvGrpSpPr>
        <p:grpSpPr>
          <a:xfrm>
            <a:off x="914400" y="3352680"/>
            <a:ext cx="3197160" cy="1629000"/>
            <a:chOff x="914400" y="3352680"/>
            <a:chExt cx="3197160" cy="1629000"/>
          </a:xfrm>
        </p:grpSpPr>
        <p:sp>
          <p:nvSpPr>
            <p:cNvPr id="387" name="AutoShape 14"/>
            <p:cNvSpPr/>
            <p:nvPr/>
          </p:nvSpPr>
          <p:spPr>
            <a:xfrm>
              <a:off x="914400" y="3352680"/>
              <a:ext cx="3197160" cy="1629000"/>
            </a:xfrm>
            <a:prstGeom prst="roundRect">
              <a:avLst>
                <a:gd name="adj" fmla="val 9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>
              <a:off x="914400" y="3352680"/>
              <a:ext cx="319716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 ventana tiene la </a:t>
              </a:r>
              <a:r>
                <a:rPr b="1" i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responsabilidad</a:t>
              </a: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 de solicitar a las figuras geométricas que se pinte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89" name="Freeform 16"/>
          <p:cNvSpPr/>
          <p:nvPr/>
        </p:nvSpPr>
        <p:spPr>
          <a:xfrm>
            <a:off x="3705120" y="2048040"/>
            <a:ext cx="1641600" cy="48564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560" h="1350">
                <a:moveTo>
                  <a:pt x="0" y="336"/>
                </a:moveTo>
                <a:lnTo>
                  <a:pt x="3419" y="336"/>
                </a:lnTo>
                <a:lnTo>
                  <a:pt x="3419" y="0"/>
                </a:lnTo>
                <a:lnTo>
                  <a:pt x="4559" y="674"/>
                </a:lnTo>
                <a:lnTo>
                  <a:pt x="3419" y="1349"/>
                </a:lnTo>
                <a:lnTo>
                  <a:pt x="3419" y="1011"/>
                </a:lnTo>
                <a:lnTo>
                  <a:pt x="0" y="1011"/>
                </a:lnTo>
                <a:lnTo>
                  <a:pt x="569" y="674"/>
                </a:lnTo>
                <a:lnTo>
                  <a:pt x="0" y="336"/>
                </a:ln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0" name="Group 17"/>
          <p:cNvGrpSpPr/>
          <p:nvPr/>
        </p:nvGrpSpPr>
        <p:grpSpPr>
          <a:xfrm>
            <a:off x="5159520" y="3416400"/>
            <a:ext cx="3396960" cy="1697040"/>
            <a:chOff x="5159520" y="3416400"/>
            <a:chExt cx="3396960" cy="1697040"/>
          </a:xfrm>
        </p:grpSpPr>
        <p:sp>
          <p:nvSpPr>
            <p:cNvPr id="391" name="AutoShape 18"/>
            <p:cNvSpPr/>
            <p:nvPr/>
          </p:nvSpPr>
          <p:spPr>
            <a:xfrm>
              <a:off x="5159520" y="3416400"/>
              <a:ext cx="3396960" cy="1697040"/>
            </a:xfrm>
            <a:prstGeom prst="roundRect">
              <a:avLst>
                <a:gd name="adj" fmla="val 9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5159520" y="3416400"/>
              <a:ext cx="339696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s figuras geométricas tienen la </a:t>
              </a:r>
              <a:r>
                <a:rPr b="1" i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responsabilidad</a:t>
              </a: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 de saberse pintar y de hacerlo cuando se lo solicite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93" name="Group 20"/>
          <p:cNvGrpSpPr/>
          <p:nvPr/>
        </p:nvGrpSpPr>
        <p:grpSpPr>
          <a:xfrm>
            <a:off x="914400" y="5226120"/>
            <a:ext cx="7623000" cy="1019160"/>
            <a:chOff x="914400" y="5226120"/>
            <a:chExt cx="7623000" cy="1019160"/>
          </a:xfrm>
        </p:grpSpPr>
        <p:sp>
          <p:nvSpPr>
            <p:cNvPr id="394" name="AutoShape 21"/>
            <p:cNvSpPr/>
            <p:nvPr/>
          </p:nvSpPr>
          <p:spPr>
            <a:xfrm>
              <a:off x="914400" y="5226120"/>
              <a:ext cx="7623000" cy="1019160"/>
            </a:xfrm>
            <a:prstGeom prst="roundRect">
              <a:avLst>
                <a:gd name="adj" fmla="val 15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5" name="Text Box 22"/>
            <p:cNvSpPr/>
            <p:nvPr/>
          </p:nvSpPr>
          <p:spPr>
            <a:xfrm>
              <a:off x="914400" y="5226120"/>
              <a:ext cx="7623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 ventana tiene que saber cómo hacer la solicitud.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 figura geométrica tuvo que haber hecho público cómo usar sus servicios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7" name="Group 28"/>
          <p:cNvGrpSpPr/>
          <p:nvPr/>
        </p:nvGrpSpPr>
        <p:grpSpPr>
          <a:xfrm>
            <a:off x="762120" y="1752480"/>
            <a:ext cx="7619400" cy="3497040"/>
            <a:chOff x="762120" y="1752480"/>
            <a:chExt cx="7619400" cy="3497040"/>
          </a:xfrm>
        </p:grpSpPr>
        <p:grpSp>
          <p:nvGrpSpPr>
            <p:cNvPr id="398" name="Group 2"/>
            <p:cNvGrpSpPr/>
            <p:nvPr/>
          </p:nvGrpSpPr>
          <p:grpSpPr>
            <a:xfrm>
              <a:off x="1390680" y="4414680"/>
              <a:ext cx="6793920" cy="834840"/>
              <a:chOff x="1390680" y="4414680"/>
              <a:chExt cx="6793920" cy="834840"/>
            </a:xfrm>
          </p:grpSpPr>
          <p:sp>
            <p:nvSpPr>
              <p:cNvPr id="399" name="AutoShape 3"/>
              <p:cNvSpPr/>
              <p:nvPr/>
            </p:nvSpPr>
            <p:spPr>
              <a:xfrm>
                <a:off x="1390680" y="4414680"/>
                <a:ext cx="6793920" cy="83484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0" name="Text Box 4"/>
              <p:cNvSpPr/>
              <p:nvPr/>
            </p:nvSpPr>
            <p:spPr>
              <a:xfrm>
                <a:off x="1390680" y="4414680"/>
                <a:ext cx="679392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La comunicación se hace a través del envío de mensaje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pic>
          <p:nvPicPr>
            <p:cNvPr id="401" name="Picture 25" descr="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7543440" cy="16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7" descr=""/>
            <p:cNvPicPr/>
            <p:nvPr/>
          </p:nvPicPr>
          <p:blipFill>
            <a:blip r:embed="rId2"/>
            <a:stretch/>
          </p:blipFill>
          <p:spPr>
            <a:xfrm>
              <a:off x="2209680" y="2330280"/>
              <a:ext cx="6171840" cy="1954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3848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9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Modelar consiste en identificar (abstraer) qué objetos hay en el mundo del problema, cómo son, cómo se comportan y cómo se relacion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3848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76197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bje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s una abstracción de un elemento (concepto) del Contexto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studia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ech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utomóv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ib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Vue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3000"/>
              </a:lnSpc>
              <a:spcBef>
                <a:spcPts val="550"/>
              </a:spcBef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Meyer, Bertran., “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Construcción de Software Orientado a Objetos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”, Prentice Hall, 1997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Booch, Grady.,”Analisis y Diseño orientado a Objetos con aplicaciones”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Fowler, Martin., “</a:t>
            </a:r>
            <a:r>
              <a:rPr b="1" i="1" lang="en-GB" sz="2200" spc="-1" strike="noStrike">
                <a:solidFill>
                  <a:srgbClr val="40458c"/>
                </a:solidFill>
                <a:latin typeface="Tahoma"/>
              </a:rPr>
              <a:t>UML Distille – Applying the Standard Object Modeling Language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”, Addison-Wesley, 1997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Budd, Timothy A. </a:t>
            </a:r>
            <a:r>
              <a:rPr b="0" i="1" lang="en-GB" sz="2200" spc="-1" strike="noStrike">
                <a:solidFill>
                  <a:srgbClr val="40458c"/>
                </a:solidFill>
                <a:latin typeface="Tahoma"/>
              </a:rPr>
              <a:t>An Introduction to Object Oriented Programming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(3rd Ed), Addison-Wesley, 2002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eña, Ricardo.,”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Diseño de Programas, formalismo y abstracciones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”, Prentice Hall, 1998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l comportamiento de los objetos puede ser descrito por una caracterización abstracta de su interfaz.  Por 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1649520" y="3887640"/>
            <a:ext cx="5530680" cy="2009880"/>
          </a:xfrm>
          <a:prstGeom prst="rect">
            <a:avLst/>
          </a:prstGeom>
          <a:ln w="0">
            <a:noFill/>
          </a:ln>
        </p:spPr>
      </p:pic>
      <p:sp>
        <p:nvSpPr>
          <p:cNvPr id="410" name="Line 4"/>
          <p:cNvSpPr/>
          <p:nvPr/>
        </p:nvSpPr>
        <p:spPr>
          <a:xfrm>
            <a:off x="2179800" y="4214880"/>
            <a:ext cx="71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5349960" y="4227480"/>
            <a:ext cx="1017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a caracterización del comportamiento es suficiente para diseñar el sistema. El comportamiento real del objeto puede ser implementado y refinado más tarde de acuerdo con las necesida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 objeto empaqueta datos (una representación concreta) y procedimientos que operan sobre los da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3467160" y="3695760"/>
            <a:ext cx="2155680" cy="2608200"/>
          </a:xfrm>
          <a:prstGeom prst="rect">
            <a:avLst/>
          </a:prstGeom>
          <a:ln w="0">
            <a:noFill/>
          </a:ln>
        </p:spPr>
      </p:pic>
      <p:sp>
        <p:nvSpPr>
          <p:cNvPr id="417" name="Line 4"/>
          <p:cNvSpPr/>
          <p:nvPr/>
        </p:nvSpPr>
        <p:spPr>
          <a:xfrm>
            <a:off x="4110120" y="4083120"/>
            <a:ext cx="834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093680" y="2247840"/>
            <a:ext cx="3003480" cy="3633840"/>
          </a:xfrm>
          <a:prstGeom prst="rect">
            <a:avLst/>
          </a:prstGeom>
          <a:ln w="0">
            <a:noFill/>
          </a:ln>
        </p:spPr>
      </p:pic>
      <p:sp>
        <p:nvSpPr>
          <p:cNvPr id="420" name="Line 3"/>
          <p:cNvSpPr/>
          <p:nvPr/>
        </p:nvSpPr>
        <p:spPr>
          <a:xfrm>
            <a:off x="1982880" y="2805120"/>
            <a:ext cx="1212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4068720" y="4840200"/>
            <a:ext cx="1320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Line 5"/>
          <p:cNvSpPr/>
          <p:nvPr/>
        </p:nvSpPr>
        <p:spPr>
          <a:xfrm>
            <a:off x="4076640" y="3510000"/>
            <a:ext cx="1311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4060800" y="2585880"/>
            <a:ext cx="1311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5532480" y="2465280"/>
            <a:ext cx="108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Nomb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477040" y="3340080"/>
            <a:ext cx="330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Datos/Atributos/Camp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5411880" y="4632480"/>
            <a:ext cx="3592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Métodos/Servicios/Interfa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l envío de mensajes es la única forma para que un objeto realice un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as operaciones son la única forma para cambiar el estado de los dat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uando esto se cumple, se dice que el estado interno del objeto (el valor de sus datos) está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encapsulado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; éste no puede ser manipulado directamente desde el exterior y su representación concreta es invisibl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660066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Abstrac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0458c"/>
                </a:solidFill>
                <a:latin typeface="Tahoma"/>
              </a:rPr>
              <a:t>Mecanismo de la mente humana fundamental para la comprensión de fenómenos o situaciones que involucren una gran cantidad de detal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0458c"/>
                </a:solidFill>
                <a:latin typeface="Tahoma"/>
              </a:rPr>
              <a:t>En biología los seres vivos se clasifican en especies, géneros, clases, órdenes, etc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660066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Abstracción ( cont...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Proceso mental que tiene dos aspectos complement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0458c"/>
                </a:solidFill>
                <a:latin typeface="Tahoma"/>
              </a:rPr>
              <a:t>El aspecto de destacar los detalles relevantes del objeto de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0458c"/>
                </a:solidFill>
                <a:latin typeface="Tahoma"/>
              </a:rPr>
              <a:t>El aspecto de ignorar los detalles irrelevantes del obje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660066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Tipo Abstracto de Datos (TA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Un tipo abstracto de datos es una colección de valores y de operaciones que se definen mediante una especificación que es independiente de cualquier representacion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89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bstracción y encapsulamien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87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a abstracción se centra en el comportamiento observable de un objeto, el encapsulamiento se centra en la implementación que da lugar a ese comporta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600" spc="-1" strike="noStrike">
                <a:solidFill>
                  <a:srgbClr val="40458c"/>
                </a:solidFill>
                <a:latin typeface="Tahoma"/>
              </a:rPr>
              <a:t>”</a:t>
            </a:r>
            <a:r>
              <a:rPr b="0" i="1" lang="en-GB" sz="2600" spc="-1" strike="noStrike">
                <a:solidFill>
                  <a:srgbClr val="40458c"/>
                </a:solidFill>
                <a:latin typeface="Tahoma"/>
              </a:rPr>
              <a:t>encapsulamiento es el proceso de almacenar en un mismo lugar los elementos de una abstracción que constituyen su estructura y su comportamiento; sirve para separar la interfaz contractual de una abstracción de su implantación." [Booch96]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"/>
          <p:cNvGrpSpPr/>
          <p:nvPr/>
        </p:nvGrpSpPr>
        <p:grpSpPr>
          <a:xfrm>
            <a:off x="2689200" y="3181320"/>
            <a:ext cx="5203800" cy="2120760"/>
            <a:chOff x="2689200" y="3181320"/>
            <a:chExt cx="5203800" cy="2120760"/>
          </a:xfrm>
        </p:grpSpPr>
        <p:sp>
          <p:nvSpPr>
            <p:cNvPr id="438" name="AutoShape 2"/>
            <p:cNvSpPr/>
            <p:nvPr/>
          </p:nvSpPr>
          <p:spPr>
            <a:xfrm>
              <a:off x="2689200" y="3181320"/>
              <a:ext cx="5203800" cy="2120760"/>
            </a:xfrm>
            <a:prstGeom prst="roundRect">
              <a:avLst>
                <a:gd name="adj" fmla="val 7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Text Box 3"/>
            <p:cNvSpPr/>
            <p:nvPr/>
          </p:nvSpPr>
          <p:spPr>
            <a:xfrm>
              <a:off x="2689200" y="3181320"/>
              <a:ext cx="5203800" cy="10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spcBef>
                  <a:spcPts val="68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741240" indent="-284040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l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scribe un conjunto de objetos del Contexto del Problema, que tienen las mismas características y el mismo comporta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5089680" y="4006800"/>
            <a:ext cx="626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AutoShape 24"/>
          <p:cNvSpPr/>
          <p:nvPr/>
        </p:nvSpPr>
        <p:spPr>
          <a:xfrm>
            <a:off x="704880" y="4672080"/>
            <a:ext cx="574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AutoShape 29"/>
          <p:cNvSpPr/>
          <p:nvPr/>
        </p:nvSpPr>
        <p:spPr>
          <a:xfrm>
            <a:off x="3014640" y="3994200"/>
            <a:ext cx="627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5" name="Picture 40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60339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660066"/>
                </a:solidFill>
                <a:latin typeface="Tahoma"/>
              </a:rPr>
              <a:t>Referencias ( 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3000"/>
              </a:lnSpc>
              <a:spcBef>
                <a:spcPts val="649"/>
              </a:spcBef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Larman, G., “</a:t>
            </a:r>
            <a:r>
              <a:rPr b="1" i="1" lang="en-GB" sz="2600" spc="-1" strike="noStrike">
                <a:solidFill>
                  <a:srgbClr val="40458c"/>
                </a:solidFill>
                <a:latin typeface="Tahoma"/>
              </a:rPr>
              <a:t>Applying  UML and Patterns: An Introduction to Object-Oriented Analysis and Design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”, prentice-Hall, 1998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Booch, Grady., “El Lenguaje Unificado de Modelado </a:t>
            </a:r>
            <a:r>
              <a:rPr b="1" i="1" lang="en-GB" sz="2600" spc="-1" strike="noStrike">
                <a:solidFill>
                  <a:srgbClr val="40458c"/>
                </a:solidFill>
                <a:latin typeface="Tahoma"/>
              </a:rPr>
              <a:t>UML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”, Addison-Wesley, 1998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Aguilar, Joyanes., “</a:t>
            </a:r>
            <a:r>
              <a:rPr b="1" lang="en-GB" sz="2600" spc="-1" strike="noStrike">
                <a:solidFill>
                  <a:srgbClr val="40458c"/>
                </a:solidFill>
                <a:latin typeface="Tahoma"/>
              </a:rPr>
              <a:t>Programación Orientada a Objetos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”, Mc. Graw Hill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O" sz="2600" spc="-1" strike="noStrike">
                <a:solidFill>
                  <a:srgbClr val="40458c"/>
                </a:solidFill>
                <a:latin typeface="Tahoma"/>
              </a:rPr>
              <a:t>Rumbaugh, James., “</a:t>
            </a:r>
            <a:r>
              <a:rPr b="1" lang="es-CO" sz="2600" spc="-1" strike="noStrike">
                <a:solidFill>
                  <a:srgbClr val="40458c"/>
                </a:solidFill>
                <a:latin typeface="Tahoma"/>
              </a:rPr>
              <a:t>Modelaje y Diseño Orientado a Objetos</a:t>
            </a:r>
            <a:r>
              <a:rPr b="0" lang="es-CO" sz="2600" spc="-1" strike="noStrike">
                <a:solidFill>
                  <a:srgbClr val="40458c"/>
                </a:solidFill>
                <a:latin typeface="Tahoma"/>
              </a:rPr>
              <a:t>”, Prentice Hall, 1990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a noción de Clase viene d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clasificació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: agrupar (en un conjunto) objetos (elementos) que se comportan de la misma manera (con respecto a la interfaz que describe el comportamiento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155680" cy="26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etáfor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01640" y="2406600"/>
            <a:ext cx="4870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48704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gregación/Composi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ermite abstraer relaciones de tipo </a:t>
            </a:r>
            <a:r>
              <a:rPr b="0" i="1" lang="en-GB" sz="2800" spc="-1" strike="noStrike">
                <a:solidFill>
                  <a:srgbClr val="ff6633"/>
                </a:solidFill>
                <a:latin typeface="Tahoma"/>
              </a:rPr>
              <a:t>...tiene...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0" i="1" lang="en-GB" sz="2800" spc="-1" strike="noStrike">
                <a:solidFill>
                  <a:srgbClr val="ff6633"/>
                </a:solidFill>
                <a:latin typeface="Tahoma"/>
              </a:rPr>
              <a:t>... está compuesto d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74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soci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ermite abstraer relaciones entre objetos diferentes a la composi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1930320" y="3633840"/>
            <a:ext cx="554364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495324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os objetos se organizan en jerarqu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Group 3"/>
          <p:cNvGrpSpPr/>
          <p:nvPr/>
        </p:nvGrpSpPr>
        <p:grpSpPr>
          <a:xfrm>
            <a:off x="1447920" y="2286000"/>
            <a:ext cx="5641560" cy="3924360"/>
            <a:chOff x="1447920" y="2286000"/>
            <a:chExt cx="5641560" cy="3924360"/>
          </a:xfrm>
        </p:grpSpPr>
        <p:grpSp>
          <p:nvGrpSpPr>
            <p:cNvPr id="462" name="Group 4"/>
            <p:cNvGrpSpPr/>
            <p:nvPr/>
          </p:nvGrpSpPr>
          <p:grpSpPr>
            <a:xfrm>
              <a:off x="4261680" y="2286000"/>
              <a:ext cx="1788480" cy="498240"/>
              <a:chOff x="4261680" y="2286000"/>
              <a:chExt cx="1788480" cy="498240"/>
            </a:xfrm>
          </p:grpSpPr>
          <p:sp>
            <p:nvSpPr>
              <p:cNvPr id="463" name="AutoShape 5"/>
              <p:cNvSpPr/>
              <p:nvPr/>
            </p:nvSpPr>
            <p:spPr>
              <a:xfrm>
                <a:off x="4374720" y="2286000"/>
                <a:ext cx="1557000" cy="49824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4" name="Text Box 6"/>
              <p:cNvSpPr/>
              <p:nvPr/>
            </p:nvSpPr>
            <p:spPr>
              <a:xfrm>
                <a:off x="4261680" y="2318400"/>
                <a:ext cx="17884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Vertebrad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65" name="Group 7"/>
            <p:cNvGrpSpPr/>
            <p:nvPr/>
          </p:nvGrpSpPr>
          <p:grpSpPr>
            <a:xfrm>
              <a:off x="2444760" y="3531960"/>
              <a:ext cx="1557000" cy="498600"/>
              <a:chOff x="2444760" y="3531960"/>
              <a:chExt cx="1557000" cy="498600"/>
            </a:xfrm>
          </p:grpSpPr>
          <p:sp>
            <p:nvSpPr>
              <p:cNvPr id="466" name="AutoShape 8"/>
              <p:cNvSpPr/>
              <p:nvPr/>
            </p:nvSpPr>
            <p:spPr>
              <a:xfrm>
                <a:off x="2444760" y="3531960"/>
                <a:ext cx="1557000" cy="49860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7" name="Text Box 9"/>
              <p:cNvSpPr/>
              <p:nvPr/>
            </p:nvSpPr>
            <p:spPr>
              <a:xfrm>
                <a:off x="2453400" y="3564360"/>
                <a:ext cx="15372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Mamifer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68" name="Group 10"/>
            <p:cNvGrpSpPr/>
            <p:nvPr/>
          </p:nvGrpSpPr>
          <p:grpSpPr>
            <a:xfrm>
              <a:off x="1447920" y="4714920"/>
              <a:ext cx="1557000" cy="498240"/>
              <a:chOff x="1447920" y="4714920"/>
              <a:chExt cx="1557000" cy="498240"/>
            </a:xfrm>
          </p:grpSpPr>
          <p:sp>
            <p:nvSpPr>
              <p:cNvPr id="469" name="AutoShape 11"/>
              <p:cNvSpPr/>
              <p:nvPr/>
            </p:nvSpPr>
            <p:spPr>
              <a:xfrm>
                <a:off x="1447920" y="4714920"/>
                <a:ext cx="1557000" cy="49824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0" name="Text Box 12"/>
              <p:cNvSpPr/>
              <p:nvPr/>
            </p:nvSpPr>
            <p:spPr>
              <a:xfrm>
                <a:off x="1619280" y="4747320"/>
                <a:ext cx="12124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Canin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71" name="Group 13"/>
            <p:cNvGrpSpPr/>
            <p:nvPr/>
          </p:nvGrpSpPr>
          <p:grpSpPr>
            <a:xfrm>
              <a:off x="3752640" y="4714920"/>
              <a:ext cx="1557000" cy="498240"/>
              <a:chOff x="3752640" y="4714920"/>
              <a:chExt cx="1557000" cy="498240"/>
            </a:xfrm>
          </p:grpSpPr>
          <p:sp>
            <p:nvSpPr>
              <p:cNvPr id="472" name="AutoShape 14"/>
              <p:cNvSpPr/>
              <p:nvPr/>
            </p:nvSpPr>
            <p:spPr>
              <a:xfrm>
                <a:off x="3752640" y="4714920"/>
                <a:ext cx="1557000" cy="49824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3" name="Text Box 15"/>
              <p:cNvSpPr/>
              <p:nvPr/>
            </p:nvSpPr>
            <p:spPr>
              <a:xfrm>
                <a:off x="3990960" y="4747320"/>
                <a:ext cx="10782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Felin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74" name="Group 16"/>
            <p:cNvGrpSpPr/>
            <p:nvPr/>
          </p:nvGrpSpPr>
          <p:grpSpPr>
            <a:xfrm>
              <a:off x="2666160" y="5711760"/>
              <a:ext cx="1738080" cy="498600"/>
              <a:chOff x="2666160" y="5711760"/>
              <a:chExt cx="1738080" cy="498600"/>
            </a:xfrm>
          </p:grpSpPr>
          <p:sp>
            <p:nvSpPr>
              <p:cNvPr id="475" name="AutoShape 17"/>
              <p:cNvSpPr/>
              <p:nvPr/>
            </p:nvSpPr>
            <p:spPr>
              <a:xfrm>
                <a:off x="2755440" y="5711760"/>
                <a:ext cx="1557000" cy="49860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6" name="Text Box 18"/>
              <p:cNvSpPr/>
              <p:nvPr/>
            </p:nvSpPr>
            <p:spPr>
              <a:xfrm>
                <a:off x="2666160" y="5744160"/>
                <a:ext cx="17380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Doméstic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77" name="Group 19"/>
            <p:cNvGrpSpPr/>
            <p:nvPr/>
          </p:nvGrpSpPr>
          <p:grpSpPr>
            <a:xfrm>
              <a:off x="4937040" y="5711760"/>
              <a:ext cx="1557000" cy="498600"/>
              <a:chOff x="4937040" y="5711760"/>
              <a:chExt cx="1557000" cy="498600"/>
            </a:xfrm>
          </p:grpSpPr>
          <p:sp>
            <p:nvSpPr>
              <p:cNvPr id="478" name="AutoShape 20"/>
              <p:cNvSpPr/>
              <p:nvPr/>
            </p:nvSpPr>
            <p:spPr>
              <a:xfrm>
                <a:off x="4937040" y="5711760"/>
                <a:ext cx="1557000" cy="49860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9" name="Text Box 21"/>
              <p:cNvSpPr/>
              <p:nvPr/>
            </p:nvSpPr>
            <p:spPr>
              <a:xfrm>
                <a:off x="5099040" y="5744160"/>
                <a:ext cx="12308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Salvaje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80" name="Freeform 22"/>
            <p:cNvSpPr/>
            <p:nvPr/>
          </p:nvSpPr>
          <p:spPr>
            <a:xfrm>
              <a:off x="4998960" y="2784240"/>
              <a:ext cx="310680" cy="24948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49480"/>
                <a:gd name="textAreaBottom" fmla="*/ 249480 h 24948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1" name="Line 23"/>
            <p:cNvSpPr/>
            <p:nvPr/>
          </p:nvSpPr>
          <p:spPr>
            <a:xfrm flipV="1">
              <a:off x="3254400" y="3217320"/>
              <a:ext cx="108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2" name="Line 24"/>
            <p:cNvSpPr/>
            <p:nvPr/>
          </p:nvSpPr>
          <p:spPr>
            <a:xfrm>
              <a:off x="3254400" y="3219480"/>
              <a:ext cx="361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3" name="Line 25"/>
            <p:cNvSpPr/>
            <p:nvPr/>
          </p:nvSpPr>
          <p:spPr>
            <a:xfrm flipV="1">
              <a:off x="5154480" y="3030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4" name="Line 26"/>
            <p:cNvSpPr/>
            <p:nvPr/>
          </p:nvSpPr>
          <p:spPr>
            <a:xfrm flipV="1">
              <a:off x="6867360" y="3217320"/>
              <a:ext cx="144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5" name="Freeform 27"/>
            <p:cNvSpPr/>
            <p:nvPr/>
          </p:nvSpPr>
          <p:spPr>
            <a:xfrm>
              <a:off x="3192480" y="4030560"/>
              <a:ext cx="310680" cy="24912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66" h="694">
                  <a:moveTo>
                    <a:pt x="432" y="0"/>
                  </a:moveTo>
                  <a:lnTo>
                    <a:pt x="865" y="693"/>
                  </a:lnTo>
                  <a:lnTo>
                    <a:pt x="0" y="693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6" name="Line 28"/>
            <p:cNvSpPr/>
            <p:nvPr/>
          </p:nvSpPr>
          <p:spPr>
            <a:xfrm>
              <a:off x="2008080" y="4465440"/>
              <a:ext cx="3052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7" name="Line 29"/>
            <p:cNvSpPr/>
            <p:nvPr/>
          </p:nvSpPr>
          <p:spPr>
            <a:xfrm flipV="1">
              <a:off x="3348000" y="4276440"/>
              <a:ext cx="108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500360" y="5213160"/>
              <a:ext cx="311040" cy="2494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49480"/>
                <a:gd name="textAreaBottom" fmla="*/ 249480 h 24948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9" name="Line 31"/>
            <p:cNvSpPr/>
            <p:nvPr/>
          </p:nvSpPr>
          <p:spPr>
            <a:xfrm>
              <a:off x="3192480" y="5587920"/>
              <a:ext cx="255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4655880" y="5462640"/>
              <a:ext cx="144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 flipV="1">
              <a:off x="5746680" y="5586480"/>
              <a:ext cx="10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 flipV="1">
              <a:off x="3192480" y="5586480"/>
              <a:ext cx="10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3" name="Line 35"/>
            <p:cNvSpPr/>
            <p:nvPr/>
          </p:nvSpPr>
          <p:spPr>
            <a:xfrm flipV="1">
              <a:off x="5060880" y="4463640"/>
              <a:ext cx="1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4" name="Line 36"/>
            <p:cNvSpPr/>
            <p:nvPr/>
          </p:nvSpPr>
          <p:spPr>
            <a:xfrm flipV="1">
              <a:off x="2008080" y="4463640"/>
              <a:ext cx="1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5" name="Text Box 37"/>
            <p:cNvSpPr/>
            <p:nvPr/>
          </p:nvSpPr>
          <p:spPr>
            <a:xfrm>
              <a:off x="6680160" y="3531960"/>
              <a:ext cx="409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a herencia permite modelar relaciones del tipo </a:t>
            </a:r>
            <a:r>
              <a:rPr b="0" i="1" lang="en-GB" sz="3200" spc="-1" strike="noStrike">
                <a:solidFill>
                  <a:srgbClr val="ff6633"/>
                </a:solidFill>
                <a:latin typeface="Tahoma"/>
              </a:rPr>
              <a:t>...es...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y clasifica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 mamífero es un vertebr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 monitor es un estudia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98" name="Group 17"/>
          <p:cNvGrpSpPr/>
          <p:nvPr/>
        </p:nvGrpSpPr>
        <p:grpSpPr>
          <a:xfrm>
            <a:off x="2057760" y="3886200"/>
            <a:ext cx="4499280" cy="2066760"/>
            <a:chOff x="2057760" y="3886200"/>
            <a:chExt cx="4499280" cy="2066760"/>
          </a:xfrm>
        </p:grpSpPr>
        <p:sp>
          <p:nvSpPr>
            <p:cNvPr id="499" name="Line 3"/>
            <p:cNvSpPr/>
            <p:nvPr/>
          </p:nvSpPr>
          <p:spPr>
            <a:xfrm>
              <a:off x="3791160" y="4132080"/>
              <a:ext cx="1239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0" name="Text Box 4"/>
            <p:cNvSpPr/>
            <p:nvPr/>
          </p:nvSpPr>
          <p:spPr>
            <a:xfrm>
              <a:off x="5033880" y="3949560"/>
              <a:ext cx="15231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uperclase</a:t>
              </a:r>
              <a:br>
                <a:rPr sz="2400"/>
              </a:br>
              <a:r>
                <a:rPr b="0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(Tipo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3768840" y="5424480"/>
              <a:ext cx="123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5036040" y="5254560"/>
              <a:ext cx="12520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ubclas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(Subtipo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2057760" y="3886200"/>
              <a:ext cx="1788480" cy="1757160"/>
              <a:chOff x="2057760" y="3886200"/>
              <a:chExt cx="1788480" cy="1757160"/>
            </a:xfrm>
          </p:grpSpPr>
          <p:grpSp>
            <p:nvGrpSpPr>
              <p:cNvPr id="504" name="Group 8"/>
              <p:cNvGrpSpPr/>
              <p:nvPr/>
            </p:nvGrpSpPr>
            <p:grpSpPr>
              <a:xfrm>
                <a:off x="2057760" y="3886200"/>
                <a:ext cx="1788480" cy="498240"/>
                <a:chOff x="2057760" y="3886200"/>
                <a:chExt cx="1788480" cy="498240"/>
              </a:xfrm>
            </p:grpSpPr>
            <p:sp>
              <p:nvSpPr>
                <p:cNvPr id="505" name="AutoShape 9"/>
                <p:cNvSpPr/>
                <p:nvPr/>
              </p:nvSpPr>
              <p:spPr>
                <a:xfrm>
                  <a:off x="2171880" y="3886200"/>
                  <a:ext cx="1557360" cy="498240"/>
                </a:xfrm>
                <a:prstGeom prst="roundRect">
                  <a:avLst>
                    <a:gd name="adj" fmla="val 315"/>
                  </a:avLst>
                </a:prstGeom>
                <a:solidFill>
                  <a:srgbClr val="ff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6" name="Text Box 10"/>
                <p:cNvSpPr/>
                <p:nvPr/>
              </p:nvSpPr>
              <p:spPr>
                <a:xfrm>
                  <a:off x="2057760" y="3918600"/>
                  <a:ext cx="1788480" cy="433800"/>
                </a:xfrm>
                <a:prstGeom prst="rect">
                  <a:avLst/>
                </a:prstGeom>
                <a:solidFill>
                  <a:srgbClr val="f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0458c"/>
                      </a:solidFill>
                      <a:latin typeface="Arial"/>
                      <a:ea typeface="HG Mincho Light J"/>
                    </a:rPr>
                    <a:t>Vertebrado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7" name="Group 11"/>
              <p:cNvGrpSpPr/>
              <p:nvPr/>
            </p:nvGrpSpPr>
            <p:grpSpPr>
              <a:xfrm>
                <a:off x="2146320" y="5145120"/>
                <a:ext cx="1557360" cy="498240"/>
                <a:chOff x="2146320" y="5145120"/>
                <a:chExt cx="1557360" cy="498240"/>
              </a:xfrm>
            </p:grpSpPr>
            <p:sp>
              <p:nvSpPr>
                <p:cNvPr id="508" name="AutoShape 12"/>
                <p:cNvSpPr/>
                <p:nvPr/>
              </p:nvSpPr>
              <p:spPr>
                <a:xfrm>
                  <a:off x="2146320" y="5145120"/>
                  <a:ext cx="1557360" cy="498240"/>
                </a:xfrm>
                <a:prstGeom prst="roundRect">
                  <a:avLst>
                    <a:gd name="adj" fmla="val 315"/>
                  </a:avLst>
                </a:prstGeom>
                <a:solidFill>
                  <a:srgbClr val="ff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9" name="Text Box 13"/>
                <p:cNvSpPr/>
                <p:nvPr/>
              </p:nvSpPr>
              <p:spPr>
                <a:xfrm>
                  <a:off x="2155680" y="5177520"/>
                  <a:ext cx="1537200" cy="433800"/>
                </a:xfrm>
                <a:prstGeom prst="rect">
                  <a:avLst/>
                </a:prstGeom>
                <a:solidFill>
                  <a:srgbClr val="f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0458c"/>
                      </a:solidFill>
                      <a:latin typeface="Arial"/>
                      <a:ea typeface="HG Mincho Light J"/>
                    </a:rPr>
                    <a:t>Mamifero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10" name="Freeform 14"/>
              <p:cNvSpPr/>
              <p:nvPr/>
            </p:nvSpPr>
            <p:spPr>
              <a:xfrm>
                <a:off x="2795760" y="4384440"/>
                <a:ext cx="311040" cy="24948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249480"/>
                  <a:gd name="textAreaBottom" fmla="*/ 249480 h 249480"/>
                </a:gdLst>
                <a:ahLst/>
                <a:rect l="textAreaLeft" t="textAreaTop" r="textAreaRight" b="textAreaBottom"/>
                <a:pathLst>
                  <a:path w="866" h="693">
                    <a:moveTo>
                      <a:pt x="432" y="0"/>
                    </a:moveTo>
                    <a:lnTo>
                      <a:pt x="865" y="692"/>
                    </a:lnTo>
                    <a:lnTo>
                      <a:pt x="0" y="692"/>
                    </a:lnTo>
                    <a:lnTo>
                      <a:pt x="432" y="0"/>
                    </a:lnTo>
                  </a:path>
                </a:pathLst>
              </a:custGeom>
              <a:solidFill>
                <a:srgbClr val="ff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1" name="Line 15"/>
              <p:cNvSpPr/>
              <p:nvPr/>
            </p:nvSpPr>
            <p:spPr>
              <a:xfrm flipV="1">
                <a:off x="2951280" y="4630680"/>
                <a:ext cx="1440" cy="52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lación de subtipaje (herencia)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i B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es subtipo d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A entonces cualquier objeto de tipo B puede ser usado en cualquier parte donde un objeto de tipo A puede ser us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3848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4876920" y="2743200"/>
            <a:ext cx="1557360" cy="498600"/>
            <a:chOff x="4876920" y="2743200"/>
            <a:chExt cx="1557360" cy="498600"/>
          </a:xfrm>
        </p:grpSpPr>
        <p:sp>
          <p:nvSpPr>
            <p:cNvPr id="516" name="AutoShape 3"/>
            <p:cNvSpPr/>
            <p:nvPr/>
          </p:nvSpPr>
          <p:spPr>
            <a:xfrm>
              <a:off x="4876920" y="2743200"/>
              <a:ext cx="1557360" cy="4986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7" name="Text Box 4"/>
            <p:cNvSpPr/>
            <p:nvPr/>
          </p:nvSpPr>
          <p:spPr>
            <a:xfrm>
              <a:off x="5005440" y="2775600"/>
              <a:ext cx="1299240" cy="433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Monito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18" name="Text Box 5"/>
          <p:cNvSpPr/>
          <p:nvPr/>
        </p:nvSpPr>
        <p:spPr>
          <a:xfrm>
            <a:off x="2894400" y="4418640"/>
            <a:ext cx="2635920" cy="43380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MonitorPre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3124080" y="3200400"/>
            <a:ext cx="309600" cy="1218600"/>
            <a:chOff x="3124080" y="3200400"/>
            <a:chExt cx="309600" cy="1218600"/>
          </a:xfrm>
        </p:grpSpPr>
        <p:sp>
          <p:nvSpPr>
            <p:cNvPr id="520" name="Freeform 7"/>
            <p:cNvSpPr/>
            <p:nvPr/>
          </p:nvSpPr>
          <p:spPr>
            <a:xfrm>
              <a:off x="3124080" y="3200400"/>
              <a:ext cx="309600" cy="2271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solidFill>
              <a:srgbClr val="ff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1" name="Line 8"/>
            <p:cNvSpPr/>
            <p:nvPr/>
          </p:nvSpPr>
          <p:spPr>
            <a:xfrm flipV="1">
              <a:off x="3278880" y="3425760"/>
              <a:ext cx="1440" cy="9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2" name="Text Box 13"/>
          <p:cNvSpPr/>
          <p:nvPr/>
        </p:nvSpPr>
        <p:spPr>
          <a:xfrm>
            <a:off x="1389240" y="2742120"/>
            <a:ext cx="3074760" cy="43380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EstudiantePre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Herencia Múltip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4" name="Group 16"/>
          <p:cNvGrpSpPr/>
          <p:nvPr/>
        </p:nvGrpSpPr>
        <p:grpSpPr>
          <a:xfrm>
            <a:off x="5029200" y="3276720"/>
            <a:ext cx="309600" cy="1142640"/>
            <a:chOff x="5029200" y="3276720"/>
            <a:chExt cx="309600" cy="1142640"/>
          </a:xfrm>
        </p:grpSpPr>
        <p:sp>
          <p:nvSpPr>
            <p:cNvPr id="525" name="Freeform 17"/>
            <p:cNvSpPr/>
            <p:nvPr/>
          </p:nvSpPr>
          <p:spPr>
            <a:xfrm>
              <a:off x="5029200" y="3276720"/>
              <a:ext cx="309600" cy="2127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solidFill>
              <a:srgbClr val="ff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6" name="Line 18"/>
            <p:cNvSpPr/>
            <p:nvPr/>
          </p:nvSpPr>
          <p:spPr>
            <a:xfrm flipV="1">
              <a:off x="5184000" y="3488400"/>
              <a:ext cx="1440" cy="9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28" name="Group 2"/>
          <p:cNvGrpSpPr/>
          <p:nvPr/>
        </p:nvGrpSpPr>
        <p:grpSpPr>
          <a:xfrm>
            <a:off x="2859120" y="1886040"/>
            <a:ext cx="3303360" cy="3436560"/>
            <a:chOff x="2859120" y="1886040"/>
            <a:chExt cx="3303360" cy="3436560"/>
          </a:xfrm>
        </p:grpSpPr>
        <p:sp>
          <p:nvSpPr>
            <p:cNvPr id="529" name="AutoShape 3"/>
            <p:cNvSpPr/>
            <p:nvPr/>
          </p:nvSpPr>
          <p:spPr>
            <a:xfrm>
              <a:off x="2917440" y="1886040"/>
              <a:ext cx="3245040" cy="99756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0" name="AutoShape 4"/>
            <p:cNvSpPr/>
            <p:nvPr/>
          </p:nvSpPr>
          <p:spPr>
            <a:xfrm>
              <a:off x="3076200" y="2014200"/>
              <a:ext cx="2770200" cy="740880"/>
            </a:xfrm>
            <a:prstGeom prst="roundRect">
              <a:avLst>
                <a:gd name="adj" fmla="val 21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1" name="Text Box 5"/>
            <p:cNvSpPr/>
            <p:nvPr/>
          </p:nvSpPr>
          <p:spPr>
            <a:xfrm>
              <a:off x="3771360" y="2161800"/>
              <a:ext cx="13435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crollBar</a:t>
              </a:r>
              <a:endParaRPr b="0" lang="en-US" sz="2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2" name="AutoShape 6"/>
            <p:cNvSpPr/>
            <p:nvPr/>
          </p:nvSpPr>
          <p:spPr>
            <a:xfrm>
              <a:off x="2859120" y="4324680"/>
              <a:ext cx="3245040" cy="99792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3864960" y="4619880"/>
              <a:ext cx="11786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Window</a:t>
              </a:r>
              <a:endParaRPr b="0" lang="en-US" sz="2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4" name="Freeform 8"/>
            <p:cNvSpPr/>
            <p:nvPr/>
          </p:nvSpPr>
          <p:spPr>
            <a:xfrm>
              <a:off x="4279320" y="2902680"/>
              <a:ext cx="648720" cy="67932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805" h="1889">
                  <a:moveTo>
                    <a:pt x="902" y="0"/>
                  </a:moveTo>
                  <a:lnTo>
                    <a:pt x="0" y="1888"/>
                  </a:lnTo>
                  <a:lnTo>
                    <a:pt x="1804" y="1888"/>
                  </a:lnTo>
                  <a:lnTo>
                    <a:pt x="90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4585320" y="3555360"/>
              <a:ext cx="108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37" name="Group 2"/>
          <p:cNvGrpSpPr/>
          <p:nvPr/>
        </p:nvGrpSpPr>
        <p:grpSpPr>
          <a:xfrm>
            <a:off x="2843280" y="2004840"/>
            <a:ext cx="3303000" cy="3436920"/>
            <a:chOff x="2843280" y="2004840"/>
            <a:chExt cx="3303000" cy="3436920"/>
          </a:xfrm>
        </p:grpSpPr>
        <p:sp>
          <p:nvSpPr>
            <p:cNvPr id="538" name="AutoShape 3"/>
            <p:cNvSpPr/>
            <p:nvPr/>
          </p:nvSpPr>
          <p:spPr>
            <a:xfrm>
              <a:off x="2901600" y="2004840"/>
              <a:ext cx="3244680" cy="99792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9" name="AutoShape 4"/>
            <p:cNvSpPr/>
            <p:nvPr/>
          </p:nvSpPr>
          <p:spPr>
            <a:xfrm>
              <a:off x="3060360" y="2133360"/>
              <a:ext cx="2769840" cy="740880"/>
            </a:xfrm>
            <a:prstGeom prst="roundRect">
              <a:avLst>
                <a:gd name="adj" fmla="val 21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0" name="Text Box 5"/>
            <p:cNvSpPr/>
            <p:nvPr/>
          </p:nvSpPr>
          <p:spPr>
            <a:xfrm>
              <a:off x="3755160" y="2280960"/>
              <a:ext cx="13435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crollBar</a:t>
              </a:r>
              <a:endParaRPr b="0" lang="en-US" sz="2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1" name="AutoShape 6"/>
            <p:cNvSpPr/>
            <p:nvPr/>
          </p:nvSpPr>
          <p:spPr>
            <a:xfrm>
              <a:off x="2843280" y="4443840"/>
              <a:ext cx="3244680" cy="99792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Text Box 7"/>
            <p:cNvSpPr/>
            <p:nvPr/>
          </p:nvSpPr>
          <p:spPr>
            <a:xfrm>
              <a:off x="3849120" y="4738680"/>
              <a:ext cx="11786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Window</a:t>
              </a:r>
              <a:endParaRPr b="0" lang="en-US" sz="2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3" name="Freeform 8"/>
            <p:cNvSpPr/>
            <p:nvPr/>
          </p:nvSpPr>
          <p:spPr>
            <a:xfrm>
              <a:off x="4263120" y="3021840"/>
              <a:ext cx="648720" cy="67896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678960"/>
                <a:gd name="textAreaBottom" fmla="*/ 679320 h 678960"/>
              </a:gdLst>
              <a:ahLst/>
              <a:rect l="textAreaLeft" t="textAreaTop" r="textAreaRight" b="textAreaBottom"/>
              <a:pathLst>
                <a:path w="1805" h="1889">
                  <a:moveTo>
                    <a:pt x="902" y="0"/>
                  </a:moveTo>
                  <a:lnTo>
                    <a:pt x="0" y="1888"/>
                  </a:lnTo>
                  <a:lnTo>
                    <a:pt x="1804" y="1888"/>
                  </a:lnTo>
                  <a:lnTo>
                    <a:pt x="90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4" name="Line 9"/>
            <p:cNvSpPr/>
            <p:nvPr/>
          </p:nvSpPr>
          <p:spPr>
            <a:xfrm>
              <a:off x="4569480" y="3674520"/>
              <a:ext cx="108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45" name="Line 10"/>
          <p:cNvSpPr/>
          <p:nvPr/>
        </p:nvSpPr>
        <p:spPr>
          <a:xfrm>
            <a:off x="2362320" y="2048040"/>
            <a:ext cx="4267080" cy="3352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2360520" y="2048040"/>
            <a:ext cx="4270320" cy="3352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roducción a la Programación Orientada por Obje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ceptos bás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bstr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Here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laciones entre clas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olimorfism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a regla de oro de la herencia: </a:t>
            </a:r>
            <a:r>
              <a:rPr b="0" lang="en-GB" sz="2800" spc="-1" strike="noStrike">
                <a:solidFill>
                  <a:srgbClr val="ff6633"/>
                </a:solidFill>
                <a:latin typeface="Tahoma"/>
              </a:rPr>
              <a:t>..</a:t>
            </a:r>
            <a:r>
              <a:rPr b="1" i="1" lang="en-GB" sz="2800" spc="-1" strike="noStrike">
                <a:solidFill>
                  <a:srgbClr val="ff6633"/>
                </a:solidFill>
                <a:latin typeface="Tahoma"/>
              </a:rPr>
              <a:t>es un</a:t>
            </a:r>
            <a:r>
              <a:rPr b="0" lang="en-GB" sz="2800" spc="-1" strike="noStrike">
                <a:solidFill>
                  <a:srgbClr val="ff6633"/>
                </a:solidFill>
                <a:latin typeface="Tahoma"/>
              </a:rPr>
              <a:t>...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uando teng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orme la frase ``A es un B''. Si es correcto, entonces A puede ser subclase de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57600" y="2895480"/>
            <a:ext cx="1584360" cy="1757520"/>
            <a:chOff x="3657600" y="2895480"/>
            <a:chExt cx="1584360" cy="1757520"/>
          </a:xfrm>
        </p:grpSpPr>
        <p:grpSp>
          <p:nvGrpSpPr>
            <p:cNvPr id="550" name="Group 4"/>
            <p:cNvGrpSpPr/>
            <p:nvPr/>
          </p:nvGrpSpPr>
          <p:grpSpPr>
            <a:xfrm>
              <a:off x="3684600" y="2895480"/>
              <a:ext cx="1557360" cy="498600"/>
              <a:chOff x="3684600" y="2895480"/>
              <a:chExt cx="1557360" cy="498600"/>
            </a:xfrm>
          </p:grpSpPr>
          <p:sp>
            <p:nvSpPr>
              <p:cNvPr id="551" name="AutoShape 5"/>
              <p:cNvSpPr/>
              <p:nvPr/>
            </p:nvSpPr>
            <p:spPr>
              <a:xfrm>
                <a:off x="3684600" y="2895480"/>
                <a:ext cx="1557360" cy="498600"/>
              </a:xfrm>
              <a:prstGeom prst="roundRect">
                <a:avLst>
                  <a:gd name="adj" fmla="val 315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4262400" y="2927520"/>
                <a:ext cx="400320" cy="433800"/>
              </a:xfrm>
              <a:prstGeom prst="rect">
                <a:avLst/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B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3657600" y="4154400"/>
              <a:ext cx="1557360" cy="498600"/>
              <a:chOff x="3657600" y="4154400"/>
              <a:chExt cx="1557360" cy="498600"/>
            </a:xfrm>
          </p:grpSpPr>
          <p:sp>
            <p:nvSpPr>
              <p:cNvPr id="554" name="AutoShape 8"/>
              <p:cNvSpPr/>
              <p:nvPr/>
            </p:nvSpPr>
            <p:spPr>
              <a:xfrm>
                <a:off x="3657600" y="4154400"/>
                <a:ext cx="1557360" cy="498600"/>
              </a:xfrm>
              <a:prstGeom prst="roundRect">
                <a:avLst>
                  <a:gd name="adj" fmla="val 315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55" name="Text Box 9"/>
              <p:cNvSpPr/>
              <p:nvPr/>
            </p:nvSpPr>
            <p:spPr>
              <a:xfrm>
                <a:off x="4236120" y="4186440"/>
                <a:ext cx="400320" cy="433800"/>
              </a:xfrm>
              <a:prstGeom prst="rect">
                <a:avLst/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A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56" name="Freeform 10"/>
            <p:cNvSpPr/>
            <p:nvPr/>
          </p:nvSpPr>
          <p:spPr>
            <a:xfrm>
              <a:off x="4307040" y="3394080"/>
              <a:ext cx="311040" cy="2491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solidFill>
              <a:srgbClr val="ff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7" name="Line 11"/>
            <p:cNvSpPr/>
            <p:nvPr/>
          </p:nvSpPr>
          <p:spPr>
            <a:xfrm flipV="1">
              <a:off x="4462560" y="3639960"/>
              <a:ext cx="144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44960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olimorfis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s la posibilidad de definir de forma distinta un método,dependiendo del obje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Freeform 3"/>
          <p:cNvSpPr/>
          <p:nvPr/>
        </p:nvSpPr>
        <p:spPr>
          <a:xfrm>
            <a:off x="1398600" y="3522600"/>
            <a:ext cx="1057320" cy="91440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938" h="2541">
                <a:moveTo>
                  <a:pt x="1468" y="0"/>
                </a:moveTo>
                <a:lnTo>
                  <a:pt x="2937" y="2540"/>
                </a:lnTo>
                <a:lnTo>
                  <a:pt x="0" y="2540"/>
                </a:lnTo>
                <a:lnTo>
                  <a:pt x="1468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4037040" y="352260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Oval 5"/>
          <p:cNvSpPr/>
          <p:nvPr/>
        </p:nvSpPr>
        <p:spPr>
          <a:xfrm>
            <a:off x="6756480" y="3522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353040" y="4741920"/>
            <a:ext cx="27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MiCuadrado.pintar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164280" y="4741920"/>
            <a:ext cx="2649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MiCirculo.pintar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51000" y="4741920"/>
            <a:ext cx="2923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MiTriangulo.pintar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74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olimorfis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Freeform 2"/>
          <p:cNvSpPr/>
          <p:nvPr/>
        </p:nvSpPr>
        <p:spPr>
          <a:xfrm>
            <a:off x="762120" y="2286000"/>
            <a:ext cx="457200" cy="395280"/>
          </a:xfrm>
          <a:custGeom>
            <a:avLst/>
            <a:gdLst>
              <a:gd name="textAreaLeft" fmla="*/ 0 w 457200"/>
              <a:gd name="textAreaRight" fmla="*/ 457560 w 457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271" h="1099">
                <a:moveTo>
                  <a:pt x="634" y="0"/>
                </a:moveTo>
                <a:lnTo>
                  <a:pt x="1270" y="1098"/>
                </a:lnTo>
                <a:lnTo>
                  <a:pt x="0" y="1098"/>
                </a:lnTo>
                <a:lnTo>
                  <a:pt x="634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8" name="AutoShape 3"/>
          <p:cNvSpPr/>
          <p:nvPr/>
        </p:nvSpPr>
        <p:spPr>
          <a:xfrm>
            <a:off x="1523880" y="2286000"/>
            <a:ext cx="381240" cy="380880"/>
          </a:xfrm>
          <a:prstGeom prst="roundRect">
            <a:avLst>
              <a:gd name="adj" fmla="val 41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2362320" y="22860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685800" y="2133720"/>
            <a:ext cx="7848720" cy="685800"/>
          </a:xfrm>
          <a:prstGeom prst="roundRect">
            <a:avLst>
              <a:gd name="adj" fmla="val 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3200400" y="2286000"/>
            <a:ext cx="457200" cy="395280"/>
          </a:xfrm>
          <a:custGeom>
            <a:avLst/>
            <a:gdLst>
              <a:gd name="textAreaLeft" fmla="*/ 0 w 457200"/>
              <a:gd name="textAreaRight" fmla="*/ 457560 w 457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271" h="1099">
                <a:moveTo>
                  <a:pt x="316" y="0"/>
                </a:moveTo>
                <a:lnTo>
                  <a:pt x="952" y="0"/>
                </a:lnTo>
                <a:lnTo>
                  <a:pt x="1270" y="548"/>
                </a:lnTo>
                <a:lnTo>
                  <a:pt x="952" y="1098"/>
                </a:lnTo>
                <a:lnTo>
                  <a:pt x="316" y="1098"/>
                </a:lnTo>
                <a:lnTo>
                  <a:pt x="0" y="548"/>
                </a:lnTo>
                <a:lnTo>
                  <a:pt x="316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Freeform 7"/>
          <p:cNvSpPr/>
          <p:nvPr/>
        </p:nvSpPr>
        <p:spPr>
          <a:xfrm>
            <a:off x="4114800" y="2286000"/>
            <a:ext cx="380880" cy="380880"/>
          </a:xfrm>
          <a:custGeom>
            <a:avLst/>
            <a:gdLst>
              <a:gd name="textAreaLeft" fmla="*/ 0 w 380880"/>
              <a:gd name="textAreaRight" fmla="*/ 38124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059" h="1059">
                <a:moveTo>
                  <a:pt x="528" y="0"/>
                </a:moveTo>
                <a:lnTo>
                  <a:pt x="1058" y="528"/>
                </a:lnTo>
                <a:lnTo>
                  <a:pt x="528" y="1058"/>
                </a:lnTo>
                <a:lnTo>
                  <a:pt x="0" y="528"/>
                </a:lnTo>
                <a:lnTo>
                  <a:pt x="528" y="0"/>
                </a:ln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Freeform 8"/>
          <p:cNvSpPr/>
          <p:nvPr/>
        </p:nvSpPr>
        <p:spPr>
          <a:xfrm>
            <a:off x="4952880" y="2286000"/>
            <a:ext cx="381240" cy="380880"/>
          </a:xfrm>
          <a:custGeom>
            <a:avLst/>
            <a:gdLst>
              <a:gd name="textAreaLeft" fmla="*/ 0 w 381240"/>
              <a:gd name="textAreaRight" fmla="*/ 381600 w 3812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060" h="1059">
                <a:moveTo>
                  <a:pt x="0" y="403"/>
                </a:moveTo>
                <a:lnTo>
                  <a:pt x="529" y="0"/>
                </a:lnTo>
                <a:lnTo>
                  <a:pt x="1059" y="403"/>
                </a:lnTo>
                <a:lnTo>
                  <a:pt x="851" y="1058"/>
                </a:lnTo>
                <a:lnTo>
                  <a:pt x="206" y="1058"/>
                </a:lnTo>
                <a:lnTo>
                  <a:pt x="0" y="40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37160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213372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297180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388620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4724280" y="213372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Line 14"/>
          <p:cNvSpPr/>
          <p:nvPr/>
        </p:nvSpPr>
        <p:spPr>
          <a:xfrm>
            <a:off x="548640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066680" y="3209760"/>
            <a:ext cx="749592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for (int i = 1; arreglo.length(); i++)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arreglo[i].pintar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81280" y="58320"/>
            <a:ext cx="538488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olimorfis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l polimorfismo es posible gracias a la herenci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83" name="Group 3"/>
          <p:cNvGrpSpPr/>
          <p:nvPr/>
        </p:nvGrpSpPr>
        <p:grpSpPr>
          <a:xfrm>
            <a:off x="3683160" y="2933640"/>
            <a:ext cx="1555560" cy="496800"/>
            <a:chOff x="3683160" y="2933640"/>
            <a:chExt cx="1555560" cy="496800"/>
          </a:xfrm>
        </p:grpSpPr>
        <p:sp>
          <p:nvSpPr>
            <p:cNvPr id="584" name="AutoShape 4"/>
            <p:cNvSpPr/>
            <p:nvPr/>
          </p:nvSpPr>
          <p:spPr>
            <a:xfrm>
              <a:off x="3683160" y="2933640"/>
              <a:ext cx="155556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Text Box 5"/>
            <p:cNvSpPr/>
            <p:nvPr/>
          </p:nvSpPr>
          <p:spPr>
            <a:xfrm>
              <a:off x="3904920" y="2964960"/>
              <a:ext cx="111204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Figur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86" name="Group 6"/>
          <p:cNvGrpSpPr/>
          <p:nvPr/>
        </p:nvGrpSpPr>
        <p:grpSpPr>
          <a:xfrm>
            <a:off x="3674880" y="4937040"/>
            <a:ext cx="1569240" cy="496800"/>
            <a:chOff x="3674880" y="4937040"/>
            <a:chExt cx="1569240" cy="496800"/>
          </a:xfrm>
        </p:grpSpPr>
        <p:sp>
          <p:nvSpPr>
            <p:cNvPr id="587" name="AutoShape 7"/>
            <p:cNvSpPr/>
            <p:nvPr/>
          </p:nvSpPr>
          <p:spPr>
            <a:xfrm>
              <a:off x="3679560" y="4937040"/>
              <a:ext cx="155556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8" name="Text Box 8"/>
            <p:cNvSpPr/>
            <p:nvPr/>
          </p:nvSpPr>
          <p:spPr>
            <a:xfrm>
              <a:off x="3674880" y="4968360"/>
              <a:ext cx="156924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Triangul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89" name="Freeform 9"/>
          <p:cNvSpPr/>
          <p:nvPr/>
        </p:nvSpPr>
        <p:spPr>
          <a:xfrm>
            <a:off x="4329000" y="3902040"/>
            <a:ext cx="311400" cy="339840"/>
          </a:xfrm>
          <a:custGeom>
            <a:avLst/>
            <a:gdLst>
              <a:gd name="textAreaLeft" fmla="*/ 0 w 311400"/>
              <a:gd name="textAreaRight" fmla="*/ 311760 w 311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866" h="942">
                <a:moveTo>
                  <a:pt x="432" y="0"/>
                </a:moveTo>
                <a:lnTo>
                  <a:pt x="865" y="941"/>
                </a:lnTo>
                <a:lnTo>
                  <a:pt x="0" y="941"/>
                </a:lnTo>
                <a:lnTo>
                  <a:pt x="432" y="0"/>
                </a:lnTo>
              </a:path>
            </a:pathLst>
          </a:cu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Line 10"/>
          <p:cNvSpPr/>
          <p:nvPr/>
        </p:nvSpPr>
        <p:spPr>
          <a:xfrm flipV="1">
            <a:off x="4486320" y="4237200"/>
            <a:ext cx="1440" cy="70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3683160" y="3408480"/>
            <a:ext cx="1555560" cy="496800"/>
            <a:chOff x="3683160" y="3408480"/>
            <a:chExt cx="1555560" cy="496800"/>
          </a:xfrm>
        </p:grpSpPr>
        <p:sp>
          <p:nvSpPr>
            <p:cNvPr id="592" name="AutoShape 12"/>
            <p:cNvSpPr/>
            <p:nvPr/>
          </p:nvSpPr>
          <p:spPr>
            <a:xfrm>
              <a:off x="3683160" y="3408480"/>
              <a:ext cx="155556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Text Box 13"/>
            <p:cNvSpPr/>
            <p:nvPr/>
          </p:nvSpPr>
          <p:spPr>
            <a:xfrm>
              <a:off x="3793680" y="3439800"/>
              <a:ext cx="133452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Pintar(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4" name="Line 14"/>
          <p:cNvSpPr/>
          <p:nvPr/>
        </p:nvSpPr>
        <p:spPr>
          <a:xfrm>
            <a:off x="2766960" y="4552920"/>
            <a:ext cx="3745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5" name="Group 15"/>
          <p:cNvGrpSpPr/>
          <p:nvPr/>
        </p:nvGrpSpPr>
        <p:grpSpPr>
          <a:xfrm>
            <a:off x="1926720" y="4894200"/>
            <a:ext cx="1600920" cy="496800"/>
            <a:chOff x="1926720" y="4894200"/>
            <a:chExt cx="1600920" cy="496800"/>
          </a:xfrm>
        </p:grpSpPr>
        <p:sp>
          <p:nvSpPr>
            <p:cNvPr id="596" name="AutoShape 16"/>
            <p:cNvSpPr/>
            <p:nvPr/>
          </p:nvSpPr>
          <p:spPr>
            <a:xfrm>
              <a:off x="1949040" y="4894200"/>
              <a:ext cx="155556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7" name="Text Box 17"/>
            <p:cNvSpPr/>
            <p:nvPr/>
          </p:nvSpPr>
          <p:spPr>
            <a:xfrm>
              <a:off x="1926720" y="4925520"/>
              <a:ext cx="160092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uadrad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8" name="Line 18"/>
          <p:cNvSpPr/>
          <p:nvPr/>
        </p:nvSpPr>
        <p:spPr>
          <a:xfrm flipV="1">
            <a:off x="2754360" y="4551480"/>
            <a:ext cx="144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9" name="Group 19"/>
          <p:cNvGrpSpPr/>
          <p:nvPr/>
        </p:nvGrpSpPr>
        <p:grpSpPr>
          <a:xfrm>
            <a:off x="5703840" y="4903920"/>
            <a:ext cx="1555920" cy="496800"/>
            <a:chOff x="5703840" y="4903920"/>
            <a:chExt cx="1555920" cy="496800"/>
          </a:xfrm>
        </p:grpSpPr>
        <p:sp>
          <p:nvSpPr>
            <p:cNvPr id="600" name="AutoShape 20"/>
            <p:cNvSpPr/>
            <p:nvPr/>
          </p:nvSpPr>
          <p:spPr>
            <a:xfrm>
              <a:off x="5703840" y="4903920"/>
              <a:ext cx="155592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1" name="Text Box 21"/>
            <p:cNvSpPr/>
            <p:nvPr/>
          </p:nvSpPr>
          <p:spPr>
            <a:xfrm>
              <a:off x="5866200" y="4935240"/>
              <a:ext cx="123084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ircul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02" name="Line 22"/>
          <p:cNvSpPr/>
          <p:nvPr/>
        </p:nvSpPr>
        <p:spPr>
          <a:xfrm flipV="1">
            <a:off x="6508800" y="4560840"/>
            <a:ext cx="144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57913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sumen Princip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odo es un obje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Los objetos realizan operaciones (computan) solicitando servicios entre ellos a través del paso de mensaj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odo objeto tiene su propia memoria, la cual consiste de otros obje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odo objeto es una instancia de una clase. Una clase agrupa objetos simila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n la clase se describe el comportamiento de los objet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Las clases están organizadas en una jerarquía con una única raíz, llamada la jerarquía de her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834840" y="2282760"/>
            <a:ext cx="7904520" cy="2338560"/>
            <a:chOff x="834840" y="2282760"/>
            <a:chExt cx="7904520" cy="2338560"/>
          </a:xfrm>
        </p:grpSpPr>
        <p:sp>
          <p:nvSpPr>
            <p:cNvPr id="217" name="Line 3"/>
            <p:cNvSpPr/>
            <p:nvPr/>
          </p:nvSpPr>
          <p:spPr>
            <a:xfrm flipV="1">
              <a:off x="4980960" y="3352320"/>
              <a:ext cx="1080" cy="12286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8" name="Line 4"/>
            <p:cNvSpPr/>
            <p:nvPr/>
          </p:nvSpPr>
          <p:spPr>
            <a:xfrm flipV="1">
              <a:off x="6324120" y="2803680"/>
              <a:ext cx="1440" cy="166032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 flipV="1">
              <a:off x="8338680" y="2803320"/>
              <a:ext cx="1440" cy="160812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834840" y="2282760"/>
              <a:ext cx="1549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ímula  (1961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 flipV="1">
              <a:off x="1463760" y="2607840"/>
              <a:ext cx="1440" cy="190836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1460520" y="2610000"/>
              <a:ext cx="1549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ímula  (1967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 flipV="1">
              <a:off x="1816920" y="2972880"/>
              <a:ext cx="1080" cy="154332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2246040" y="2962440"/>
              <a:ext cx="1873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mallTalk (1972-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5" name="Line 11"/>
            <p:cNvSpPr/>
            <p:nvPr/>
          </p:nvSpPr>
          <p:spPr>
            <a:xfrm flipV="1">
              <a:off x="2828880" y="3233880"/>
              <a:ext cx="1440" cy="12952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6" name="Text Box 12"/>
            <p:cNvSpPr/>
            <p:nvPr/>
          </p:nvSpPr>
          <p:spPr>
            <a:xfrm>
              <a:off x="3475440" y="2297160"/>
              <a:ext cx="12535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C++ (1983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Line 13"/>
            <p:cNvSpPr/>
            <p:nvPr/>
          </p:nvSpPr>
          <p:spPr>
            <a:xfrm flipV="1">
              <a:off x="4104360" y="2620440"/>
              <a:ext cx="1080" cy="190836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Text Box 14"/>
            <p:cNvSpPr/>
            <p:nvPr/>
          </p:nvSpPr>
          <p:spPr>
            <a:xfrm>
              <a:off x="4305960" y="2610000"/>
              <a:ext cx="1422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Eiffel  (1985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 flipV="1">
              <a:off x="4662360" y="2972880"/>
              <a:ext cx="1080" cy="154332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6776640" y="2909880"/>
              <a:ext cx="14788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Java 1  (1995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 flipV="1">
              <a:off x="7165800" y="3168720"/>
              <a:ext cx="1440" cy="134784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 flipV="1">
              <a:off x="3500640" y="3585960"/>
              <a:ext cx="1080" cy="94284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33" name="Group 19"/>
            <p:cNvGrpSpPr/>
            <p:nvPr/>
          </p:nvGrpSpPr>
          <p:grpSpPr>
            <a:xfrm>
              <a:off x="1213200" y="4273560"/>
              <a:ext cx="7158240" cy="347760"/>
              <a:chOff x="1213200" y="4273560"/>
              <a:chExt cx="7158240" cy="347760"/>
            </a:xfrm>
          </p:grpSpPr>
          <p:sp>
            <p:nvSpPr>
              <p:cNvPr id="234" name="Text Box 20"/>
              <p:cNvSpPr/>
              <p:nvPr/>
            </p:nvSpPr>
            <p:spPr>
              <a:xfrm>
                <a:off x="1213200" y="4273560"/>
                <a:ext cx="2389680" cy="34776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60-7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5" name="Text Box 21"/>
              <p:cNvSpPr/>
              <p:nvPr/>
            </p:nvSpPr>
            <p:spPr>
              <a:xfrm>
                <a:off x="3604320" y="4273560"/>
                <a:ext cx="2389680" cy="34776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8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Text Box 22"/>
              <p:cNvSpPr/>
              <p:nvPr/>
            </p:nvSpPr>
            <p:spPr>
              <a:xfrm>
                <a:off x="5983200" y="4273560"/>
                <a:ext cx="2388240" cy="34776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9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37" name="Text Box 23"/>
            <p:cNvSpPr/>
            <p:nvPr/>
          </p:nvSpPr>
          <p:spPr>
            <a:xfrm>
              <a:off x="4728240" y="2922480"/>
              <a:ext cx="1268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elf  (1986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4728600" y="3132000"/>
              <a:ext cx="1783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Modula 3  (1986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2919960" y="3313080"/>
              <a:ext cx="13539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ADA(1979-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6003000" y="2517840"/>
              <a:ext cx="13953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Ruby  (1991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7688520" y="2452680"/>
              <a:ext cx="1050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C#(2000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3" name="Group 2"/>
          <p:cNvGrpSpPr/>
          <p:nvPr/>
        </p:nvGrpSpPr>
        <p:grpSpPr>
          <a:xfrm>
            <a:off x="758880" y="1839960"/>
            <a:ext cx="7675200" cy="2338560"/>
            <a:chOff x="758880" y="1839960"/>
            <a:chExt cx="7675200" cy="2338560"/>
          </a:xfrm>
        </p:grpSpPr>
        <p:sp>
          <p:nvSpPr>
            <p:cNvPr id="244" name="Line 3"/>
            <p:cNvSpPr/>
            <p:nvPr/>
          </p:nvSpPr>
          <p:spPr>
            <a:xfrm flipV="1">
              <a:off x="4765680" y="2909520"/>
              <a:ext cx="1080" cy="122868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5" name="Line 4"/>
            <p:cNvSpPr/>
            <p:nvPr/>
          </p:nvSpPr>
          <p:spPr>
            <a:xfrm flipV="1">
              <a:off x="6063840" y="2360160"/>
              <a:ext cx="1440" cy="166068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6" name="Line 5"/>
            <p:cNvSpPr/>
            <p:nvPr/>
          </p:nvSpPr>
          <p:spPr>
            <a:xfrm flipV="1">
              <a:off x="8010720" y="2360160"/>
              <a:ext cx="1440" cy="160812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758880" y="1839960"/>
              <a:ext cx="1549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ímula  (1961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8" name="Line 7"/>
            <p:cNvSpPr/>
            <p:nvPr/>
          </p:nvSpPr>
          <p:spPr>
            <a:xfrm flipV="1">
              <a:off x="1366560" y="2165400"/>
              <a:ext cx="1440" cy="190800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1363680" y="2166840"/>
              <a:ext cx="1549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ímula  (1967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0" name="Line 9"/>
            <p:cNvSpPr/>
            <p:nvPr/>
          </p:nvSpPr>
          <p:spPr>
            <a:xfrm flipV="1">
              <a:off x="1708200" y="2530440"/>
              <a:ext cx="1080" cy="154296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2120400" y="2517840"/>
              <a:ext cx="1873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mallTalk (1972-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2" name="Line 11"/>
            <p:cNvSpPr/>
            <p:nvPr/>
          </p:nvSpPr>
          <p:spPr>
            <a:xfrm flipV="1">
              <a:off x="2686320" y="2790360"/>
              <a:ext cx="1440" cy="129564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3" name="Text Box 12"/>
            <p:cNvSpPr/>
            <p:nvPr/>
          </p:nvSpPr>
          <p:spPr>
            <a:xfrm>
              <a:off x="3312000" y="1852560"/>
              <a:ext cx="12535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C++ (1983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4" name="Line 13"/>
            <p:cNvSpPr/>
            <p:nvPr/>
          </p:nvSpPr>
          <p:spPr>
            <a:xfrm flipV="1">
              <a:off x="3918960" y="2177640"/>
              <a:ext cx="1080" cy="190836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5" name="Text Box 14"/>
            <p:cNvSpPr/>
            <p:nvPr/>
          </p:nvSpPr>
          <p:spPr>
            <a:xfrm>
              <a:off x="4114440" y="2166840"/>
              <a:ext cx="1422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Eiffel  (1985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6" name="Line 15"/>
            <p:cNvSpPr/>
            <p:nvPr/>
          </p:nvSpPr>
          <p:spPr>
            <a:xfrm flipV="1">
              <a:off x="4458240" y="2530440"/>
              <a:ext cx="1080" cy="154296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7" name="Text Box 16"/>
            <p:cNvSpPr/>
            <p:nvPr/>
          </p:nvSpPr>
          <p:spPr>
            <a:xfrm>
              <a:off x="6501240" y="2467080"/>
              <a:ext cx="14788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Java 1  (1995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 flipV="1">
              <a:off x="6877440" y="2725560"/>
              <a:ext cx="1440" cy="134784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9" name="Line 18"/>
            <p:cNvSpPr/>
            <p:nvPr/>
          </p:nvSpPr>
          <p:spPr>
            <a:xfrm flipV="1">
              <a:off x="3335400" y="3143160"/>
              <a:ext cx="1080" cy="94320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0" name="Group 19"/>
            <p:cNvGrpSpPr/>
            <p:nvPr/>
          </p:nvGrpSpPr>
          <p:grpSpPr>
            <a:xfrm>
              <a:off x="1124640" y="3830760"/>
              <a:ext cx="6917760" cy="347760"/>
              <a:chOff x="1124640" y="3830760"/>
              <a:chExt cx="6917760" cy="347760"/>
            </a:xfrm>
          </p:grpSpPr>
          <p:sp>
            <p:nvSpPr>
              <p:cNvPr id="261" name="Text Box 20"/>
              <p:cNvSpPr/>
              <p:nvPr/>
            </p:nvSpPr>
            <p:spPr>
              <a:xfrm>
                <a:off x="1124640" y="3830760"/>
                <a:ext cx="2309400" cy="34776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60-7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2" name="Text Box 21"/>
              <p:cNvSpPr/>
              <p:nvPr/>
            </p:nvSpPr>
            <p:spPr>
              <a:xfrm>
                <a:off x="3435480" y="3830760"/>
                <a:ext cx="2309400" cy="34776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8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3" name="Text Box 22"/>
              <p:cNvSpPr/>
              <p:nvPr/>
            </p:nvSpPr>
            <p:spPr>
              <a:xfrm>
                <a:off x="5733000" y="3830760"/>
                <a:ext cx="2309400" cy="34776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9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64" name="Text Box 23"/>
            <p:cNvSpPr/>
            <p:nvPr/>
          </p:nvSpPr>
          <p:spPr>
            <a:xfrm>
              <a:off x="4521600" y="2479680"/>
              <a:ext cx="1268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elf  (1986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Text Box 24"/>
            <p:cNvSpPr/>
            <p:nvPr/>
          </p:nvSpPr>
          <p:spPr>
            <a:xfrm>
              <a:off x="4520880" y="2689200"/>
              <a:ext cx="1783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Modula 3  (1986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Text Box 25"/>
            <p:cNvSpPr/>
            <p:nvPr/>
          </p:nvSpPr>
          <p:spPr>
            <a:xfrm>
              <a:off x="2773800" y="2870280"/>
              <a:ext cx="13539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ADA(1979-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5754600" y="2075040"/>
              <a:ext cx="13953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Ruby  (1991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7383240" y="2009880"/>
              <a:ext cx="1050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C#(2000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2400480" y="4237200"/>
            <a:ext cx="3600360" cy="1253520"/>
            <a:chOff x="2400480" y="4237200"/>
            <a:chExt cx="3600360" cy="1253520"/>
          </a:xfrm>
        </p:grpSpPr>
        <p:sp>
          <p:nvSpPr>
            <p:cNvPr id="270" name="Line 29"/>
            <p:cNvSpPr/>
            <p:nvPr/>
          </p:nvSpPr>
          <p:spPr>
            <a:xfrm>
              <a:off x="2414520" y="4617360"/>
              <a:ext cx="1800" cy="873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>
              <a:off x="2400480" y="4604760"/>
              <a:ext cx="3600360" cy="10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5986440" y="4237200"/>
              <a:ext cx="1440" cy="367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73" name="Text Box 32"/>
          <p:cNvSpPr/>
          <p:nvPr/>
        </p:nvSpPr>
        <p:spPr>
          <a:xfrm>
            <a:off x="1103400" y="5505480"/>
            <a:ext cx="15793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Booch (1991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33"/>
          <p:cNvSpPr/>
          <p:nvPr/>
        </p:nvSpPr>
        <p:spPr>
          <a:xfrm>
            <a:off x="1063800" y="5818320"/>
            <a:ext cx="15793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OMT (1991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5" name="Group 34"/>
          <p:cNvGrpSpPr/>
          <p:nvPr/>
        </p:nvGrpSpPr>
        <p:grpSpPr>
          <a:xfrm>
            <a:off x="2779560" y="4240080"/>
            <a:ext cx="3353040" cy="1420560"/>
            <a:chOff x="2779560" y="4240080"/>
            <a:chExt cx="3353040" cy="1420560"/>
          </a:xfrm>
        </p:grpSpPr>
        <p:sp>
          <p:nvSpPr>
            <p:cNvPr id="276" name="Line 35"/>
            <p:cNvSpPr/>
            <p:nvPr/>
          </p:nvSpPr>
          <p:spPr>
            <a:xfrm>
              <a:off x="2790720" y="4671360"/>
              <a:ext cx="1800" cy="989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7" name="Line 36"/>
            <p:cNvSpPr/>
            <p:nvPr/>
          </p:nvSpPr>
          <p:spPr>
            <a:xfrm>
              <a:off x="2779560" y="4656960"/>
              <a:ext cx="3353040" cy="14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8" name="Line 37"/>
            <p:cNvSpPr/>
            <p:nvPr/>
          </p:nvSpPr>
          <p:spPr>
            <a:xfrm>
              <a:off x="6118200" y="4240080"/>
              <a:ext cx="1440" cy="4168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79" name="Text Box 38"/>
          <p:cNvSpPr/>
          <p:nvPr/>
        </p:nvSpPr>
        <p:spPr>
          <a:xfrm>
            <a:off x="2486160" y="5765760"/>
            <a:ext cx="1089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Objectory (1992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3727440" y="4919760"/>
            <a:ext cx="1440" cy="7538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40"/>
          <p:cNvSpPr/>
          <p:nvPr/>
        </p:nvSpPr>
        <p:spPr>
          <a:xfrm>
            <a:off x="3705120" y="4929120"/>
            <a:ext cx="299880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6715080" y="4249800"/>
            <a:ext cx="1800" cy="6937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3581280" y="5753160"/>
            <a:ext cx="1611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OBA,MOSES, FUSION (1994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43"/>
          <p:cNvSpPr/>
          <p:nvPr/>
        </p:nvSpPr>
        <p:spPr>
          <a:xfrm>
            <a:off x="8512200" y="4233960"/>
            <a:ext cx="1440" cy="12985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Text Box 44"/>
          <p:cNvSpPr/>
          <p:nvPr/>
        </p:nvSpPr>
        <p:spPr>
          <a:xfrm>
            <a:off x="7666200" y="5661000"/>
            <a:ext cx="1089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RUP (1999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O provee objetos como el principal medio para abstraer y estructurar un sistem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n objeto puede modelar entidades del mundo real, puede capturar abstracciones de fenómenos complejos, puede representar artefactos de software (pilas, gráficos, …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74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l contexto del problema se ve como objetos que interactúan entre ell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2022480" y="4017960"/>
            <a:ext cx="574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1" name="Picture 33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501192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3848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722600"/>
            <a:ext cx="784836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Ejemplo Enviar Flores [4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79280" indent="-17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Suponga que Juan desea llevarle flores a una amiga en otra ciudad Mar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79280" indent="-17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Como Juan no puede llevarlas personalmente, le encarga a su florista preferida (Rosa) el enví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79280" indent="-17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María recibe sus f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SSMON RM S.A</dc:creator>
  <dc:description/>
  <dc:language>en-US</dc:language>
  <cp:lastModifiedBy>ROSSMON RM S.A</cp:lastModifiedBy>
  <dcterms:modified xsi:type="dcterms:W3CDTF">2009-09-05T20:58:01Z</dcterms:modified>
  <cp:revision>63</cp:revision>
  <dc:subject/>
  <dc:title>Principios Orientación a Objetos</dc:title>
</cp:coreProperties>
</file>